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47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23.wmf" ContentType="image/x-wmf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50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9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0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1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E37-3EAC-4870-B2C1-1A19BB47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D50-685D-4B5E-B181-B9DE55B63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cept is quite similar to a school report card, which measures and compares an individual student’s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E16-BDDB-4E41-80B4-E83CE554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1A34-5FDC-4F4A-9170-72EB1286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 and specific objectiv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on quality of services – availability, efficiency, satisfaction with behaviour of staff,problem incidence and resolution &amp; extent of corruptio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getting feedback from patients on quality of health services 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tisfaction with quality of care provided, level of cleanliness, extent of corruption, behaviour of doctors and other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respondents – citizens – slum dwellers/non-slum dwellers, patients of hospital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595E-6F11-4F46-BF94-8B4B6854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esearch obje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s purpose of the study. What do you want to examine and why? What specific questions will the study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research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earch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480F-A620-4A3F-9D94-F45AE381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problem areas in your local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vices are particularly problema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pecific information do you want to gather about these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B66-B90D-4808-9927-64DD25E2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design a questionaire that will help us capture actual experience of users of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356-B993-4794-AD55-73303878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F00-5202-4436-BEC1-DFA23948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ocal language (language most comfortable w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nd simple,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B9DA-7CD1-4798-984F-7FFA582E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ample design is required to answer the questions in the research objec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402-45F6-4F5F-944A-F2A59E1B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 of research agency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F55-2043-4D88-A9C4-A31DB7C4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FBF-1A51-4590-A8A0-9593ABCA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94C2-481F-4DA8-8504-C04B5807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9CD7-5EFF-413D-8DB1-8AA6A6F7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8F4E-4220-42DF-A2E6-B61761BE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018-D452-4D7E-BE91-5D28D23B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899-56E8-4ACE-A804-CADBFB89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CBA-14F4-4D75-A555-3663BEDA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46080" y="7556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7C1-FE8C-47A9-B309-FC495E81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design a questionaire that will help us capture actual experience of users of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3E1E-1375-4A93-B5C6-2CBEE322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 intención es discutir con ustedes mecanismos de rendición de cuentas que reúnan tres condiciones básic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dición de cuentas ejercida desde la DEMANDA. Es decir sistemas de rendición de cuentas construidos de abajo hacia arri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dición de cuentas que conduzca a fórmulas de poder de decisión que hagan más efectiva la entrega de bienes públicos que permitan manejar de mejor manera las expectativas de la ciudadan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osibilidad de aplicar estos mecanismos a la solución de cuestiones de gobernabilidad a nivel de gobiernos lo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B78-F738-4F35-AF79-1707346C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50E-0AA4-45B7-B6FF-13AFDE64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874B-9252-4AF2-9FF0-071EEF0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7D851-F888-46D0-80BC-B94B679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6393-6729-41F3-89EA-8ADB7CA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70233-B747-41DD-92D0-DA95A9C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2F630-4513-4953-BF69-50FA187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955BF-6B9F-48EC-BAB5-6F0FB7C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D5FA7-6967-4879-8693-9D05FB0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EE17C-18D2-4022-8DA1-96CBA7D4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25712-A3D3-465D-91BA-F4E1A2A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CDA36-DA8A-4873-926F-353AC692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AD3-D956-445E-A184-7A4CB0BD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1050-2B8A-4333-B41C-9AC0A83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6C35A-FD12-4490-991D-10A1BF7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957A7-731D-4555-8CA2-11ED9DA9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E7BAC-9CCA-43DB-A97A-3458624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BB1A0-296D-4DA8-89D3-85EB79F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9C8CA-97E5-4EB8-82D5-CEADF04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9BEA-45F9-4FCD-B47C-03E3424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8B34B-248E-4BA4-BD86-ACC07A9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6BC2-A9D5-4E8B-AA6D-559323E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2B75-103F-43AD-B90E-B3E277DF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3CE-3A55-4C8B-9B3D-86ED95BF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E6FE8-CD2C-438C-9040-99E2671D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A249-2391-4255-BB95-E8BE6583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1320-495C-41DB-8A75-C2BECAC1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6384F-971C-4503-9891-D4F8AAD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5EC7-769F-4734-9A53-1C8A9EE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7131E-EE99-4562-98F2-FE8E305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4F178-5253-4D0F-991A-983A0AA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E65D4-1C43-4210-821C-2988C39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9BF4D-5607-43CE-A769-6BF4436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93B6-B11E-49B7-9C75-BB147C9C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203-2708-42EC-9D2D-B8FBC11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3094-D080-4E1E-89D7-0A72D88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1BBA-8602-4EC5-BE07-9C5A1A4D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5E414-0F40-4F6F-A233-83E513E4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AE767-D6B4-4836-9D8C-6430B1C7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E3AD-24F6-4D94-A3E8-E22CF0B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B05DD-46FF-4B64-960F-714A534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8ADFB-A56B-44FB-A4E0-9A806D3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ECC94-2C5E-44C4-BF5D-C6DEF91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E4795-0889-4E95-AB51-50BF0FBF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8266-0052-4457-BCF3-9F193E6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690-E823-4DB2-B6E6-E3F38AFF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B5C54-4AE6-4362-9284-F3EB1C6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0C6EC-05FF-49BA-AE49-75876AD2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5154-CD79-41F6-A250-3E59F6B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73070-101D-454E-9A6C-2F52F6F8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D2E6E-A8DA-4B85-8762-5D80A23B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1A943F-E6BF-440E-866B-3D364A621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669757-5067-4814-A85D-8F7E0C98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50F25-0CAA-4CAC-8DAD-868ECA5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526D56-B919-4021-BE8F-50FB5B01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761BF2-F0D2-4771-BF43-28DA4FC4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1514-857F-464C-B6B4-030FC12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1502FE-7F7A-48D0-B16D-771B0009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A3F4AF-D4FC-4425-ACE6-D596F33F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A8FE55-D24A-473B-8753-AF69B676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AF7713-1167-44CA-BC34-203B06D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796C9-D30F-474A-9220-C96DD9E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80C49-4A54-4AE8-A41D-C93CC39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CA8BB1-C33D-4A28-B318-3F24708AE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ECB4-A4D6-4328-B894-0DD1A74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EFE9-38E4-46BF-BFFA-10924E1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AA2-7AC2-4AE1-945E-48E2B35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060-FB97-49D6-BBAF-2F15046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FEF-3C98-4F39-94F4-211BFE8A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7A0-0267-49E0-BD91-FF80B279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C77B-4BEF-4E11-80D4-37CF5C9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662-B487-420E-BBBC-02DF381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7819-B095-48D1-BD5C-34C6FCB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B4CC-CB0A-4457-A645-1DFAEF41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00DB-0150-4063-B315-AAF0B160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40CF-FD06-4CBF-9244-374A886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FBAB-8E5A-4D19-BD5D-B34645F6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7A28-87E3-428C-A6A1-0C60E0ED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E9F2-286B-4D92-B464-A2975E2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6A3-0CFE-43EF-8081-5EBE450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8755-68B6-45B1-A53D-D2E2AB3A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D65E-438D-42CC-B1E7-2D815A0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8A7B-94D6-4356-8D1E-8219ACF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3912-F507-4C4F-86BE-4A4E26B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E6D8-D68C-4458-B77C-27CB7486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545D-D8D7-46AF-9759-E1280F9E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4B52-CBCF-480D-96A7-9B94D292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E009-A7F6-4893-BDF7-304B6B3F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A1C5-C634-480F-B628-AF11DF8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295F-B8D3-4BE7-A901-96F540C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063-FA18-409C-A495-1103B3C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E32C-4913-441A-9076-60E77400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1D8B-6486-4CE1-9B32-DACAF00F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A778-6BCC-4F78-8A83-5E9BA28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7AEC-CFFB-40E1-8F97-146E430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6559-705E-4F20-BBD5-FAA2306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7640-A070-41CC-BE79-9B6B1CF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B06B-1AA9-4548-80E8-CAC4E456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79FB-1824-41D2-94DE-3A16CBE8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5D1D-C158-4D36-8AA8-0F00B022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B74E-C40F-4DFB-9C61-08956A0C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CE1-3178-4555-823E-367A4362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6B1A-96BA-4FD4-A9FF-C94FB0D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B448-CE37-4CC7-8C13-41BC50B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1667-EE0D-45B0-AF23-AD2C37A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DBE8-DE24-4371-A94B-696CE7A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66E6-5FBA-487D-B14D-7D5A025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FA280-2D69-4814-B162-26DFFDD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ECBA-5D05-4B35-A219-FA32F1E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7857-C0FF-48BC-9FA4-D56FC00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C58A-3328-4490-B321-7C60CF5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0DD5-A86C-45E7-994E-993C8EA2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639-00A9-4A40-83D5-74C9391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0053-C1F7-4B65-9BC9-2B3E615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0E976-2C73-453F-B4A5-B8A9A05D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9C1AB-9FBA-4BB4-882E-56F3C19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8A454-D7AB-42E3-B57C-8E83AFC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94CB-3BC5-4E58-9888-B506F4E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D5B5-1899-4F11-A41E-FB39898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6203-DAFF-43F7-88A4-9E5335F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2F58-6772-45F1-A6CF-A71F9F5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5D7D-B491-4B49-AB46-28144B5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AE60-5E83-4A65-80F1-EC64610A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7C2-E0B6-4FD2-B570-60B75E01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3303-BE8A-4587-B469-7392A51A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79CE-3C6F-4E40-A5BF-69E0468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85C4-FDB5-4B8B-9FB4-583697D4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E679-3FE4-4EF9-8D02-CBC9A45C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06D8-9DC0-406C-A816-6366719A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6C91-2FCB-4000-AE22-5F90697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B276-D986-4E22-9A82-2A0972B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4821-6345-4689-B7CB-2E2B89AE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DB2F3-8D9C-4A0E-BBF6-EBD24652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17C1-E40A-4C58-B52F-98DAB8C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F1C-7D3E-4469-AD91-3444322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275A-3122-4514-A3B8-A25B2FB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08A5-125D-411E-9926-DBB02C5D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6B26-CC06-4C09-BCF8-0EDE4C1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4B23-BFAB-4F98-A952-8D61374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4231-A4A1-488C-A61F-8C5D7199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1159-DC9D-4D20-B3CF-EAEB539D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F808-7E9E-4458-8272-C86F87F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EF29-9858-4869-93ED-3AB8612B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08CAB-FA63-481E-9FCC-B3D9356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91C45-366F-43FF-B047-54826588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318-AA56-41C0-9208-424F940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17728-BA29-4B81-969F-D75A36B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B20A-892B-47B3-B29C-7CA0548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63F3-C6ED-48A6-846C-2ACDC7EC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B887-9272-44DE-B2F8-E78B87B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9681-4CE2-441A-B968-F5EB739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99B80-E850-444D-84FD-0320027C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42A5-0264-4191-A07C-886FFF1A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14D45-D82F-45C4-862C-DB9438C3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C4A49-7445-4C99-838B-E20DDC6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3E506-CE51-49C4-87D7-238568DC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08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Affairs Centre I Bangalore</a:t>
            </a:r>
            <a:fld id="{3078F9A2-81E5-409C-BB76-EF7F82224E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AF4-4A1D-43CD-9761-BDF1085BB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1279-25E8-4990-AEE4-8EEAE0E2E2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6F0-64A7-4D16-9467-9426E8729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F07-0917-4086-B91B-378D9CA938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ec 08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ublic Affairs Centre I Bangalore</a:t>
            </a:r>
            <a:fld id="{046B995D-6C1B-4AE0-937B-220D6714D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26CE-E6EE-45F3-9538-DA991EDC7E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749-9D62-454B-BDD1-15A11CD7E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825-0649-404D-B290-4A49FFDF1F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13F-85FF-42DB-8FE6-1C59E83CC3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D08-5BE3-4A42-AACA-3021CADABD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CA60-AB0B-4D68-B553-5FB48291D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Object 8"/>
          <p:cNvGraphicFramePr/>
          <p:nvPr/>
        </p:nvGraphicFramePr>
        <p:xfrm>
          <a:off x="8153280" y="228600"/>
          <a:ext cx="609840" cy="5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3280" y="228600"/>
                    <a:ext cx="6098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945-2129-4822-A6F4-8DA18F0226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ssion1 - A Brief 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7593-5047-402F-B1AC-6F9C4DE04A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1725-0DCB-439A-BD55-341E74A43A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Rectangle 3" descr=""/>
          <p:cNvPicPr/>
          <p:nvPr/>
        </p:nvPicPr>
        <p:blipFill>
          <a:blip r:embed="rId1"/>
          <a:stretch/>
        </p:blipFill>
        <p:spPr>
          <a:xfrm>
            <a:off x="360360" y="378000"/>
            <a:ext cx="7954920" cy="11523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304920" y="1523880"/>
            <a:ext cx="815328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ory budg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Expenditure Tr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Budget Analysis by CSOs/Think T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feedback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/citizen monitoring of over-all performance of public agencies, e.g. through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Citizen Report Cards and Community Score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disclosure initi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ight to information m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Rectangle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9680" cy="18414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Arial Narrow"/>
              </a:rPr>
              <a:t>From an </a:t>
            </a:r>
            <a:r>
              <a:rPr b="1" i="1" lang="en-US" sz="4200" spc="-1" strike="noStrike">
                <a:solidFill>
                  <a:srgbClr val="0000ff"/>
                </a:solidFill>
                <a:latin typeface="Arial Narrow"/>
              </a:rPr>
              <a:t>IDEA</a:t>
            </a:r>
            <a:r>
              <a:rPr b="1" lang="en-US" sz="2700" spc="-1" strike="noStrike">
                <a:solidFill>
                  <a:srgbClr val="464646"/>
                </a:solidFill>
                <a:latin typeface="Arial Narrow"/>
              </a:rPr>
              <a:t> to an </a:t>
            </a:r>
            <a:r>
              <a:rPr b="1" i="1" lang="en-US" sz="3800" spc="-1" strike="noStrike">
                <a:solidFill>
                  <a:srgbClr val="0000ff"/>
                </a:solidFill>
                <a:latin typeface="Arial Narrow"/>
              </a:rPr>
              <a:t>INSTITUTION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441-79F6-4645-92AA-D4BAA42977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0000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adequate and inefficient public servic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0000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ide corruption and abuse of discre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0000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n responsiveness of agencies and political leadershi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0000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ak response from citizens, civil society &amp; media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0000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mpetus for change had to come from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286"/>
              </a:spcAft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litical leadership and administration, 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spcAft>
                <a:spcPts val="286"/>
              </a:spcAft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tive citizens and civil societ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672-7914-4ADB-9676-E94062105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Rectangle 2" descr=""/>
          <p:cNvPicPr/>
          <p:nvPr/>
        </p:nvPicPr>
        <p:blipFill>
          <a:blip r:embed="rId1"/>
          <a:stretch/>
        </p:blipFill>
        <p:spPr>
          <a:xfrm>
            <a:off x="480960" y="378000"/>
            <a:ext cx="7986600" cy="1152360"/>
          </a:xfrm>
          <a:prstGeom prst="rect">
            <a:avLst/>
          </a:prstGeom>
          <a:ln w="0">
            <a:noFill/>
          </a:ln>
        </p:spPr>
      </p:pic>
      <p:sp>
        <p:nvSpPr>
          <p:cNvPr id="695" name="Line 4"/>
          <p:cNvSpPr/>
          <p:nvPr/>
        </p:nvSpPr>
        <p:spPr>
          <a:xfrm>
            <a:off x="228600" y="1371600"/>
            <a:ext cx="86868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2251"/>
              </a:spcAft>
              <a:buClr>
                <a:srgbClr val="0000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Lack of </a:t>
            </a:r>
            <a:r>
              <a:rPr b="1" i="1" lang="en-GB" sz="4000" spc="-1" strike="noStrike">
                <a:solidFill>
                  <a:srgbClr val="ff0000"/>
                </a:solidFill>
                <a:latin typeface="Lucida Sans Unicode"/>
              </a:rPr>
              <a:t>Exit</a:t>
            </a: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 Op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2251"/>
              </a:spcAft>
              <a:buClr>
                <a:srgbClr val="0000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Poor </a:t>
            </a:r>
            <a:r>
              <a:rPr b="1" i="1" lang="en-GB" sz="4000" spc="-1" strike="noStrike">
                <a:solidFill>
                  <a:srgbClr val="ff0000"/>
                </a:solidFill>
                <a:latin typeface="Lucida Sans Unicode"/>
              </a:rPr>
              <a:t>Corrective</a:t>
            </a: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 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2251"/>
              </a:spcAft>
              <a:buClr>
                <a:srgbClr val="0000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Weak </a:t>
            </a:r>
            <a:r>
              <a:rPr b="1" i="1" lang="en-GB" sz="4000" spc="-1" strike="noStrike">
                <a:solidFill>
                  <a:srgbClr val="ff0000"/>
                </a:solidFill>
                <a:latin typeface="Lucida Sans Unicode"/>
              </a:rPr>
              <a:t>Collective</a:t>
            </a:r>
            <a:r>
              <a:rPr b="1" lang="en-GB" sz="4000" spc="-1" strike="noStrike">
                <a:solidFill>
                  <a:srgbClr val="000000"/>
                </a:solidFill>
                <a:latin typeface="Lucida Sans Unicode"/>
              </a:rPr>
              <a:t> 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4C5-3037-4E3F-B495-6B1887EBC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Rectangle 2" descr=""/>
          <p:cNvPicPr/>
          <p:nvPr/>
        </p:nvPicPr>
        <p:blipFill>
          <a:blip r:embed="rId1"/>
          <a:stretch/>
        </p:blipFill>
        <p:spPr>
          <a:xfrm>
            <a:off x="328680" y="669960"/>
            <a:ext cx="7986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2" descr=""/>
          <p:cNvPicPr/>
          <p:nvPr/>
        </p:nvPicPr>
        <p:blipFill>
          <a:blip r:embed="rId1"/>
          <a:stretch/>
        </p:blipFill>
        <p:spPr>
          <a:xfrm>
            <a:off x="987480" y="390600"/>
            <a:ext cx="7066080" cy="9144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STRENGTHENING CITIZEN’S / CONSUMER’S “</a:t>
            </a:r>
            <a:r>
              <a:rPr b="1" i="1" lang="en-US" sz="2800" spc="-1" strike="noStrike">
                <a:solidFill>
                  <a:srgbClr val="ff0000"/>
                </a:solidFill>
                <a:latin typeface="Lucida Sans Unicode"/>
              </a:rPr>
              <a:t>VOICE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” TO RAISE THE DEMAND FOR CHANGE &amp; REFOR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Lucida Sans Unicode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STRENGTHENING AGENCY / PROVIDER’S “</a:t>
            </a:r>
            <a:r>
              <a:rPr b="1" i="1" lang="en-US" sz="2800" spc="-1" strike="noStrike">
                <a:solidFill>
                  <a:srgbClr val="ff0000"/>
                </a:solidFill>
                <a:latin typeface="Lucida Sans Unicode"/>
              </a:rPr>
              <a:t>RESPONSIVENESS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” TO FACILITATE CITIZENS PARTICIPATION &amp; INVOLV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6A7-8314-4272-8EDE-7E21FF679D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64646"/>
                </a:solidFill>
                <a:latin typeface="Lucida Sans Unicode"/>
              </a:rPr>
              <a:t>Can Citizen’s “</a:t>
            </a:r>
            <a:r>
              <a:rPr b="1" lang="en-US" sz="3400" spc="-1" strike="noStrike">
                <a:solidFill>
                  <a:srgbClr val="0000ff"/>
                </a:solidFill>
                <a:latin typeface="Lucida Sans Unicode"/>
              </a:rPr>
              <a:t>VOICE</a:t>
            </a:r>
            <a:r>
              <a:rPr b="0" lang="en-US" sz="3400" spc="-1" strike="noStrike">
                <a:solidFill>
                  <a:srgbClr val="464646"/>
                </a:solidFill>
                <a:latin typeface="Lucida Sans Unicode"/>
              </a:rPr>
              <a:t>” be a trigger for change?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61E-480E-4364-B664-E6E345F5DF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2" descr=""/>
          <p:cNvPicPr/>
          <p:nvPr/>
        </p:nvPicPr>
        <p:blipFill>
          <a:blip r:embed="rId1"/>
          <a:stretch/>
        </p:blipFill>
        <p:spPr>
          <a:xfrm>
            <a:off x="682560" y="1822320"/>
            <a:ext cx="8083440" cy="14875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Comic Sans MS"/>
              </a:rPr>
              <a:t>THE CONCEPT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DC0-CE82-48D2-A1D7-9114A8272D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Lucida Sans Unicode"/>
              </a:rPr>
              <a:t>Name: Gopa; Class: IX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F18-0615-4EFA-81AC-6E78E08C28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0406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Object 4"/>
          <p:cNvGraphicFramePr/>
          <p:nvPr/>
        </p:nvGraphicFramePr>
        <p:xfrm>
          <a:off x="1071720" y="1447920"/>
          <a:ext cx="7145280" cy="505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1447920"/>
                    <a:ext cx="71452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IMPLE EVALUATION TO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TRUCTURED FOR SIMPLE COMMUNIC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OVIDES SUMMATIVE FEEDBACK ON PERFORM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OPE FOR COMPARISON WITH OTHER STUDEN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TARTING POINT FOR REFLECTION &amp; CORRECTIVE 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104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23A-0AFA-4862-8CEB-2AD593B965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62624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31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ioneered by Public Affairs Centre as an independent assessment in 1993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redible 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user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feedback on public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ovide opportunities to communities to demand more access, responsiveness &amp; accountability from service providers (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from </a:t>
            </a:r>
            <a:r>
              <a:rPr b="1" i="1" lang="en-US" sz="2400" spc="-1" strike="noStrike">
                <a:solidFill>
                  <a:srgbClr val="0000ff"/>
                </a:solidFill>
                <a:latin typeface="Lucida Sans Unicode"/>
              </a:rPr>
              <a:t>Shouting to Counting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reates an effective diagnostic tool for service providers and encourage them to introduce citizen friendly pract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reate an environment to facilitate demand mobilization &amp; `Rights-Based’ strateg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port always in </a:t>
            </a:r>
            <a:r>
              <a:rPr b="1" lang="en-US" sz="2400" spc="-1" strike="noStrike">
                <a:solidFill>
                  <a:srgbClr val="cc3300"/>
                </a:solidFill>
                <a:latin typeface="Lucida Sans Unicode"/>
              </a:rPr>
              <a:t>PUBLIC DOMAI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spcAft>
                <a:spcPts val="9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Not a one-off effort – continued benchmar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A88-DD97-4E9D-8BAB-27B1B2F839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74008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A92-E6C9-426E-9C5F-7B73C1BB5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Rectangle 7" descr=""/>
          <p:cNvPicPr/>
          <p:nvPr/>
        </p:nvPicPr>
        <p:blipFill>
          <a:blip r:embed="rId1"/>
          <a:stretch/>
        </p:blipFill>
        <p:spPr>
          <a:xfrm>
            <a:off x="-12600" y="133200"/>
            <a:ext cx="8705880" cy="866880"/>
          </a:xfrm>
          <a:prstGeom prst="rect">
            <a:avLst/>
          </a:prstGeom>
          <a:ln w="0">
            <a:noFill/>
          </a:ln>
        </p:spPr>
      </p:pic>
      <p:sp>
        <p:nvSpPr>
          <p:cNvPr id="634" name="Oval 2"/>
          <p:cNvSpPr/>
          <p:nvPr/>
        </p:nvSpPr>
        <p:spPr>
          <a:xfrm>
            <a:off x="1066680" y="4572000"/>
            <a:ext cx="1154160" cy="12160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3"/>
          <p:cNvSpPr/>
          <p:nvPr/>
        </p:nvSpPr>
        <p:spPr>
          <a:xfrm>
            <a:off x="2590920" y="5257800"/>
            <a:ext cx="914400" cy="1066680"/>
          </a:xfrm>
          <a:prstGeom prst="triangle">
            <a:avLst>
              <a:gd name="adj" fmla="val 50000"/>
            </a:avLst>
          </a:prstGeom>
          <a:solidFill>
            <a:srgbClr val="ff81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 rot="19252200">
            <a:off x="779040" y="3352320"/>
            <a:ext cx="8364600" cy="301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                                                                      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1143000" y="4876920"/>
            <a:ext cx="977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ublic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546120" y="1246320"/>
            <a:ext cx="3429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464646"/>
                </a:solidFill>
                <a:latin typeface="Arial Narrow"/>
                <a:ea typeface="Times New Roman"/>
              </a:rPr>
              <a:t>Countries with well-designed policies are supposed to leverage their own &amp; external resources to produce human development outcom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FEEDBACK FROM ACTUAL USERS OF SERVICES REGARDING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VAILABILITY, ACCESS &amp; USAGE OF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QUALITY &amp; RELI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NCIDENCE OF PROBLEMS &amp; RESPONSIVENESS OF SERVICE PROVIDE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IDDEN COSTS - CORRUPTION &amp; FORCED INVESTMEN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ATISFACTION WITH SERVIC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ASONS FOR DISSATISF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UGGESTIONS FOR IMPROVE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5FFE-6B8E-4A0B-96A0-711A89E473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7932-B412-41D8-8850-6CC36D416E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384120" y="122400"/>
            <a:ext cx="8120160" cy="877680"/>
          </a:xfrm>
          <a:prstGeom prst="rect">
            <a:avLst/>
          </a:prstGeom>
          <a:ln w="0">
            <a:noFill/>
          </a:ln>
        </p:spPr>
      </p:pic>
      <p:sp>
        <p:nvSpPr>
          <p:cNvPr id="724" name="Oval 3"/>
          <p:cNvSpPr/>
          <p:nvPr/>
        </p:nvSpPr>
        <p:spPr>
          <a:xfrm>
            <a:off x="3048120" y="2590920"/>
            <a:ext cx="2133360" cy="1981080"/>
          </a:xfrm>
          <a:prstGeom prst="ellipse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4"/>
          <p:cNvSpPr/>
          <p:nvPr/>
        </p:nvSpPr>
        <p:spPr>
          <a:xfrm rot="3595200">
            <a:off x="5028480" y="2133360"/>
            <a:ext cx="609840" cy="762120"/>
          </a:xfrm>
          <a:prstGeom prst="flowChartExtra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"/>
          <p:cNvSpPr/>
          <p:nvPr/>
        </p:nvSpPr>
        <p:spPr>
          <a:xfrm rot="4836600">
            <a:off x="5523840" y="3009600"/>
            <a:ext cx="533520" cy="762120"/>
          </a:xfrm>
          <a:prstGeom prst="flowChartExtra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6"/>
          <p:cNvSpPr/>
          <p:nvPr/>
        </p:nvSpPr>
        <p:spPr>
          <a:xfrm rot="6312600">
            <a:off x="5331600" y="4041000"/>
            <a:ext cx="504720" cy="80496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7"/>
          <p:cNvSpPr/>
          <p:nvPr/>
        </p:nvSpPr>
        <p:spPr>
          <a:xfrm rot="505200">
            <a:off x="4114440" y="1600200"/>
            <a:ext cx="560520" cy="792000"/>
          </a:xfrm>
          <a:prstGeom prst="flowChartExtra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"/>
          <p:cNvSpPr/>
          <p:nvPr/>
        </p:nvSpPr>
        <p:spPr>
          <a:xfrm rot="7466400">
            <a:off x="4569120" y="4650480"/>
            <a:ext cx="504720" cy="80460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 rot="11604000">
            <a:off x="3352320" y="4723920"/>
            <a:ext cx="505080" cy="80496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 rot="14636400">
            <a:off x="2207520" y="3812400"/>
            <a:ext cx="504720" cy="80496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 rot="17000400">
            <a:off x="2207160" y="2592720"/>
            <a:ext cx="504720" cy="80496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 rot="19755000">
            <a:off x="2895120" y="1676160"/>
            <a:ext cx="505080" cy="804600"/>
          </a:xfrm>
          <a:prstGeom prst="flowChartExtra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6324480" y="42670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bility to Voice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5029200" y="54864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esence of Activism of CSO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2514600" y="56386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kills for Survey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dvoc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228600" y="4191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Quality of Media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152280" y="27432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rientation &amp; Responsiveness of Service Provider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1676520" y="1219320"/>
            <a:ext cx="1828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ter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Hi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s of Gov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3886200" y="1219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olitical Set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0"/>
          <p:cNvSpPr/>
          <p:nvPr/>
        </p:nvSpPr>
        <p:spPr>
          <a:xfrm>
            <a:off x="5867280" y="21337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centralizatio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1"/>
          <p:cNvSpPr/>
          <p:nvPr/>
        </p:nvSpPr>
        <p:spPr>
          <a:xfrm>
            <a:off x="6324480" y="3200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bility to Seek Feedb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Political Contex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How would the political institutions in your country support or hinder methodologies like CRC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Decentralizat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Do local bodies have reasonably high degree of financial &amp; policymaking power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Ability to Seek Feedbac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Would organizations feel safe conducting public feedback exercises like the CRC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Citizens Ability to Voice Experienc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Do citizens feel free to give honest feedback about government service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Presence &amp; Activism of Civil Society Organization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Are there active CSOs in the country? Are they independent &amp; non-partisan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Survey &amp; Advocacy Competenc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Are there demonstrated local skills for survey and analysis?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Quality of media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Is the media independent? Do they cover issues related to public services? Will they cover CRC findings and present them in an unbiased manner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Responsiveness of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Do service providers seek consumer/user feedback? How open would they be to independent assessments on their performance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Lucida Sans Unicode"/>
              </a:rPr>
              <a:t>Interest in Higher Levels of Governmen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– Would higher levels of the government take interest in the finding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AE8-7841-44D2-A7F1-D36E1A6B6D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Rectang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Rectangle 2" descr=""/>
          <p:cNvPicPr/>
          <p:nvPr/>
        </p:nvPicPr>
        <p:blipFill>
          <a:blip r:embed="rId1"/>
          <a:stretch/>
        </p:blipFill>
        <p:spPr>
          <a:xfrm>
            <a:off x="195120" y="73080"/>
            <a:ext cx="849816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533520" y="914400"/>
          <a:ext cx="8229600" cy="5029200"/>
        </p:xfrm>
        <a:graphic>
          <a:graphicData uri="http://schemas.openxmlformats.org/drawingml/2006/table">
            <a:tbl>
              <a:tblPr/>
              <a:tblGrid>
                <a:gridCol w="2895480"/>
                <a:gridCol w="1371600"/>
                <a:gridCol w="838080"/>
                <a:gridCol w="990720"/>
                <a:gridCol w="838080"/>
                <a:gridCol w="12956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Criter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Provi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Gov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CS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Aver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litical s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centr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eking Feed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oice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ctivism of C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rvey/Advoc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Quality of Me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vider Respo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er Govt. Lev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5D2-17F1-4641-9D26-725F36903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ssion2 – Stages in CR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070-C4A2-4D6E-BCC4-04C539B4CE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3931-830B-4264-955F-E098B1F691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Rectangle 2" descr=""/>
          <p:cNvPicPr/>
          <p:nvPr/>
        </p:nvPicPr>
        <p:blipFill>
          <a:blip r:embed="rId1"/>
          <a:stretch/>
        </p:blipFill>
        <p:spPr>
          <a:xfrm>
            <a:off x="103320" y="201600"/>
            <a:ext cx="8400960" cy="79848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3"/>
          <p:cNvSpPr/>
          <p:nvPr/>
        </p:nvSpPr>
        <p:spPr>
          <a:xfrm>
            <a:off x="609480" y="1219320"/>
            <a:ext cx="7772400" cy="82548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SSESSING SITUATION &amp; DEFINING  SCOPE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609480" y="2057400"/>
            <a:ext cx="7772400" cy="82548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REPARATIONS AND COLLECTING CITIZEN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828800" y="2895480"/>
            <a:ext cx="5943600" cy="45972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ATING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1828800" y="3733920"/>
            <a:ext cx="5867280" cy="82548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LOGUE AND RESPONSE O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7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1828800" y="4572000"/>
            <a:ext cx="5867280" cy="45972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ITIZEN ENGAGEMENT IN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1143000" y="5410080"/>
            <a:ext cx="6934320" cy="825480"/>
          </a:xfrm>
          <a:prstGeom prst="rect">
            <a:avLst/>
          </a:prstGeom>
          <a:gradFill rotWithShape="0">
            <a:gsLst>
              <a:gs pos="0">
                <a:srgbClr val="005269"/>
              </a:gs>
              <a:gs pos="100000">
                <a:srgbClr val="2abae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ERIODIC BENCHMARKING AND PUBLIC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0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1"/>
          <p:cNvSpPr/>
          <p:nvPr/>
        </p:nvSpPr>
        <p:spPr>
          <a:xfrm>
            <a:off x="4572000" y="502920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"/>
          <p:cNvSpPr/>
          <p:nvPr/>
        </p:nvSpPr>
        <p:spPr>
          <a:xfrm>
            <a:off x="4572000" y="251460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"/>
          <p:cNvSpPr/>
          <p:nvPr/>
        </p:nvSpPr>
        <p:spPr>
          <a:xfrm>
            <a:off x="4572000" y="167652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9D90-9AA9-449D-B172-35543CC91E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Rectangle 2" descr=""/>
          <p:cNvPicPr/>
          <p:nvPr/>
        </p:nvPicPr>
        <p:blipFill>
          <a:blip r:embed="rId1"/>
          <a:stretch/>
        </p:blipFill>
        <p:spPr>
          <a:xfrm>
            <a:off x="384120" y="42840"/>
            <a:ext cx="8120160" cy="87804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"/>
          <p:cNvSpPr/>
          <p:nvPr/>
        </p:nvSpPr>
        <p:spPr>
          <a:xfrm>
            <a:off x="2403360" y="914400"/>
            <a:ext cx="43052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fining the Scope of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2292840" y="1828800"/>
            <a:ext cx="46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3413160" y="3656160"/>
            <a:ext cx="238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6"/>
          <p:cNvSpPr/>
          <p:nvPr/>
        </p:nvSpPr>
        <p:spPr>
          <a:xfrm>
            <a:off x="4537080" y="1447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7"/>
          <p:cNvSpPr/>
          <p:nvPr/>
        </p:nvSpPr>
        <p:spPr>
          <a:xfrm>
            <a:off x="453708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3488040" y="4570560"/>
            <a:ext cx="209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441960" y="5408640"/>
            <a:ext cx="221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4537080" y="4191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453708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3186000" y="273384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pl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4537080" y="22860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3437280" y="6238800"/>
            <a:ext cx="223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4537080" y="5867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7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Lucida Sans Unicode"/>
              </a:rPr>
              <a:t>Statement of Purpose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eral Vs Specif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service(s) or sectors do you wish to co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 you want to focus on a single service provider or multiple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there a government policy or program that you wish to asses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7D6-6957-4514-A7FC-ED2F46DD5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7785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1405-3737-4547-BCDB-935D24AE4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"/>
          <p:cNvSpPr/>
          <p:nvPr/>
        </p:nvSpPr>
        <p:spPr>
          <a:xfrm>
            <a:off x="64764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The CRC 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2438280" y="914400"/>
            <a:ext cx="430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ng the Scope for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193480" y="1828800"/>
            <a:ext cx="495252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448080" y="3656160"/>
            <a:ext cx="238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"/>
          <p:cNvSpPr/>
          <p:nvPr/>
        </p:nvSpPr>
        <p:spPr>
          <a:xfrm>
            <a:off x="4572000" y="1447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7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3522960" y="4570560"/>
            <a:ext cx="209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3476880" y="5408640"/>
            <a:ext cx="221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0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1"/>
          <p:cNvSpPr/>
          <p:nvPr/>
        </p:nvSpPr>
        <p:spPr>
          <a:xfrm>
            <a:off x="457200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3220920" y="273384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pl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3"/>
          <p:cNvSpPr/>
          <p:nvPr/>
        </p:nvSpPr>
        <p:spPr>
          <a:xfrm>
            <a:off x="4572000" y="22860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3437280" y="6238800"/>
            <a:ext cx="223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1"/>
          <p:cNvSpPr/>
          <p:nvPr/>
        </p:nvSpPr>
        <p:spPr>
          <a:xfrm>
            <a:off x="4537080" y="5867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FGD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to condu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should facilitat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should participat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questions to as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BA3-A90F-490F-9A82-5247149F73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Rectangle 2" descr=""/>
          <p:cNvPicPr/>
          <p:nvPr/>
        </p:nvPicPr>
        <p:blipFill>
          <a:blip r:embed="rId1"/>
          <a:stretch/>
        </p:blipFill>
        <p:spPr>
          <a:xfrm>
            <a:off x="268200" y="255600"/>
            <a:ext cx="84250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5DC-6C62-4F19-8A9F-F514CDD4C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Rectangle 2" descr=""/>
          <p:cNvPicPr/>
          <p:nvPr/>
        </p:nvPicPr>
        <p:blipFill>
          <a:blip r:embed="rId1"/>
          <a:stretch/>
        </p:blipFill>
        <p:spPr>
          <a:xfrm>
            <a:off x="133200" y="189000"/>
            <a:ext cx="8182080" cy="73188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3"/>
          <p:cNvSpPr/>
          <p:nvPr/>
        </p:nvSpPr>
        <p:spPr>
          <a:xfrm>
            <a:off x="2057400" y="5396040"/>
            <a:ext cx="990720" cy="1170000"/>
          </a:xfrm>
          <a:prstGeom prst="triangle">
            <a:avLst>
              <a:gd name="adj" fmla="val 50000"/>
            </a:avLst>
          </a:prstGeom>
          <a:solidFill>
            <a:srgbClr val="ff81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 rot="18556200">
            <a:off x="2392200" y="4389120"/>
            <a:ext cx="1676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 rot="19904400">
            <a:off x="6311520" y="1235160"/>
            <a:ext cx="16765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 rot="20512800">
            <a:off x="3700440" y="3338280"/>
            <a:ext cx="16765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 rot="18204600">
            <a:off x="5005440" y="2285280"/>
            <a:ext cx="1676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 rot="19270800">
            <a:off x="1084320" y="5514480"/>
            <a:ext cx="16765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380880" y="1219320"/>
            <a:ext cx="4191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464646"/>
                </a:solidFill>
                <a:latin typeface="Arial Narrow"/>
                <a:ea typeface="Times New Roman"/>
              </a:rPr>
              <a:t>…</a:t>
            </a:r>
            <a:r>
              <a:rPr b="1" i="1" lang="en-US" sz="2700" spc="-1" strike="noStrike">
                <a:solidFill>
                  <a:srgbClr val="464646"/>
                </a:solidFill>
                <a:latin typeface="Arial Narrow"/>
                <a:ea typeface="Times New Roman"/>
              </a:rPr>
              <a:t>but, there are many weak links in implementation, and much needs to come together to make services work &amp; </a:t>
            </a:r>
            <a:r>
              <a:rPr b="1" i="1" lang="en-US" sz="2800" spc="-1" strike="noStrike">
                <a:solidFill>
                  <a:srgbClr val="464646"/>
                </a:solidFill>
                <a:latin typeface="Arial Narrow"/>
                <a:ea typeface="Times New Roman"/>
              </a:rPr>
              <a:t>produce desirabl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6235560" y="142416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1"/>
          <p:cNvSpPr/>
          <p:nvPr/>
        </p:nvSpPr>
        <p:spPr>
          <a:xfrm>
            <a:off x="6997680" y="1728720"/>
            <a:ext cx="1523880" cy="30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38" y="2782"/>
                </a:moveTo>
                <a:lnTo>
                  <a:pt x="-1080" y="7855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Leakage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5397480" y="31003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4"/>
          <p:cNvSpPr/>
          <p:nvPr/>
        </p:nvSpPr>
        <p:spPr>
          <a:xfrm>
            <a:off x="792000" y="4551480"/>
            <a:ext cx="1154160" cy="12160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978480" y="4908600"/>
            <a:ext cx="787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6"/>
          <p:cNvSpPr/>
          <p:nvPr/>
        </p:nvSpPr>
        <p:spPr>
          <a:xfrm>
            <a:off x="6215040" y="2806560"/>
            <a:ext cx="2685960" cy="7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9" y="12106"/>
                </a:moveTo>
                <a:lnTo>
                  <a:pt x="-613" y="2294"/>
                </a:lnTo>
              </a:path>
              <a:path w="21600" h="21600">
                <a:moveTo>
                  <a:pt x="-613" y="0"/>
                </a:moveTo>
                <a:lnTo>
                  <a:pt x="-613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Inappropriate spending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(e.g. high teacher salaries; Insufficient supply of textbook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8"/>
          <p:cNvSpPr/>
          <p:nvPr/>
        </p:nvSpPr>
        <p:spPr>
          <a:xfrm>
            <a:off x="3809880" y="3886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9"/>
          <p:cNvSpPr/>
          <p:nvPr/>
        </p:nvSpPr>
        <p:spPr>
          <a:xfrm>
            <a:off x="4419720" y="4371840"/>
            <a:ext cx="2361960" cy="33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00" y="-12573"/>
                </a:moveTo>
                <a:lnTo>
                  <a:pt x="-697" y="7134"/>
                </a:lnTo>
              </a:path>
              <a:path w="21600" h="21600">
                <a:moveTo>
                  <a:pt x="-697" y="0"/>
                </a:moveTo>
                <a:lnTo>
                  <a:pt x="-6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Low-quality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1"/>
          <p:cNvSpPr/>
          <p:nvPr/>
        </p:nvSpPr>
        <p:spPr>
          <a:xfrm>
            <a:off x="2730600" y="5157720"/>
            <a:ext cx="30456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22"/>
          <p:cNvSpPr/>
          <p:nvPr/>
        </p:nvSpPr>
        <p:spPr>
          <a:xfrm>
            <a:off x="3568680" y="5421240"/>
            <a:ext cx="2362320" cy="33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85" y="-5158"/>
                </a:moveTo>
                <a:lnTo>
                  <a:pt x="-697" y="7134"/>
                </a:lnTo>
              </a:path>
              <a:path w="21600" h="21600">
                <a:moveTo>
                  <a:pt x="-697" y="0"/>
                </a:moveTo>
                <a:lnTo>
                  <a:pt x="-6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Lack of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209520" y="177840"/>
            <a:ext cx="680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Background Information to be collected prior to the FGDs (from the key community informa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cial  (communities, settlements) &amp; Institutional mapping (access &amp; use of key public, social and traditional institutions) – separately for different commun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file of basic services in the village: drinking water sources, nearest school, health facility, credit (formal and informal), police station, post office, telephone, bus, pow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ce of non governmental organizations and private agencies in the delivery of water &amp; sanitary services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rces of livelihood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pecial problems if any encountered by households in the loca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0D3B-8AF6-4828-94D5-21AF0B40A3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Rectang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tting the introduction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Right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ing Route – “Funnel method”; Open ended; Avoid too many “why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ght Moderation – Giraffes &amp; Wol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ng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lysing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226-58D5-4786-B904-E0AB66E63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Lucida Sans Unicode"/>
              </a:rPr>
              <a:t>KEY THEMES TO FOCU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SUES IN RELATION TO THE SERVICE – AVAILABILITY, ACCESS,USAGE &amp; QUALIT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NCIDENCE &amp; TYPE OF PROBLEM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ATTERN OF RESPONSE TO PROBLEM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STS – HIDDEN, LEGAL, FORCED, WILLINGNESS TO PAY FOR BETTER SERVIC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CAP OF PROBLEMS AND ISSU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UGGESTIONS FOR SERVICE QUALITY IMPROVEMEN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OST DISCUSSION ANALYSIS – RELEVANT ISSUES FOR SURVEY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F32-E555-4D19-B5DC-F7135BCD37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Rectang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research objectives to be cove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rtest length possible (45 minut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nguage - simple and convenient based on respondents’ and investigator’s level of understa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 instructions for the investig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oid too many open-ended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oid double-barreled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3AB-BD09-4EC7-9981-F6A17A327F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st whether the flow of the Questions are in Order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hether the Respondents understand the Questions Properly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hether major issues have been left out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ime taken to complete the Questionnair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dentify Pointers For Refinemen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8625-B6B6-4213-9593-AFCBCF1EF6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id the respondents understand the purpose of the exercise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ere all the questions comprehensible to you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id the respondents have any difficulty in understanding the questions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as the questionnaire too long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ere the questions ordered properly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What changes would you like to make to improve the questionnaire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60B-D6B7-4F34-B932-F5FA26336D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3DB9-666D-42DD-BBDD-AAFF7D9148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64764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CRC Process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2403360" y="914400"/>
            <a:ext cx="4305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ng the Scope for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2292840" y="1828800"/>
            <a:ext cx="46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413160" y="3656160"/>
            <a:ext cx="238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6"/>
          <p:cNvSpPr/>
          <p:nvPr/>
        </p:nvSpPr>
        <p:spPr>
          <a:xfrm>
            <a:off x="4537080" y="1447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7"/>
          <p:cNvSpPr/>
          <p:nvPr/>
        </p:nvSpPr>
        <p:spPr>
          <a:xfrm>
            <a:off x="453708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3488040" y="4570560"/>
            <a:ext cx="209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3441960" y="5408640"/>
            <a:ext cx="221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0"/>
          <p:cNvSpPr/>
          <p:nvPr/>
        </p:nvSpPr>
        <p:spPr>
          <a:xfrm>
            <a:off x="4537080" y="4191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1"/>
          <p:cNvSpPr/>
          <p:nvPr/>
        </p:nvSpPr>
        <p:spPr>
          <a:xfrm>
            <a:off x="453708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2"/>
          <p:cNvSpPr/>
          <p:nvPr/>
        </p:nvSpPr>
        <p:spPr>
          <a:xfrm>
            <a:off x="3682800" y="2733840"/>
            <a:ext cx="16041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3"/>
          <p:cNvSpPr/>
          <p:nvPr/>
        </p:nvSpPr>
        <p:spPr>
          <a:xfrm>
            <a:off x="4537080" y="22860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3437280" y="6238800"/>
            <a:ext cx="223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1"/>
          <p:cNvSpPr/>
          <p:nvPr/>
        </p:nvSpPr>
        <p:spPr>
          <a:xfrm>
            <a:off x="4537080" y="5867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8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7AD9-BFC3-4B96-BBA3-353624DF89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3"/>
          <p:cNvSpPr/>
          <p:nvPr/>
        </p:nvSpPr>
        <p:spPr>
          <a:xfrm>
            <a:off x="2971800" y="1295280"/>
            <a:ext cx="4191120" cy="57168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2971800" y="2263680"/>
            <a:ext cx="4267080" cy="57168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termine the sampling frame &amp; choose unit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3048120" y="3406680"/>
            <a:ext cx="4114800" cy="57168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lect the Sampling techni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3048120" y="4489560"/>
            <a:ext cx="4114800" cy="57132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termine the sampling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3124080" y="5562720"/>
            <a:ext cx="4038840" cy="571320"/>
          </a:xfrm>
          <a:prstGeom prst="rect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ecute the sampling 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029200" y="1981080"/>
            <a:ext cx="0" cy="228600"/>
          </a:xfrm>
          <a:prstGeom prst="line">
            <a:avLst/>
          </a:prstGeom>
          <a:ln w="3492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9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3492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0"/>
          <p:cNvSpPr/>
          <p:nvPr/>
        </p:nvSpPr>
        <p:spPr>
          <a:xfrm>
            <a:off x="5029200" y="4114800"/>
            <a:ext cx="0" cy="228600"/>
          </a:xfrm>
          <a:prstGeom prst="line">
            <a:avLst/>
          </a:prstGeom>
          <a:ln w="3492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1"/>
          <p:cNvSpPr/>
          <p:nvPr/>
        </p:nvSpPr>
        <p:spPr>
          <a:xfrm>
            <a:off x="5029200" y="5257800"/>
            <a:ext cx="0" cy="228600"/>
          </a:xfrm>
          <a:prstGeom prst="line">
            <a:avLst/>
          </a:prstGeom>
          <a:ln w="3492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sampl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ortance of representativ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assure representativ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xing quotas by area or category or bot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oosing appropriate sample siz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ime constraints and cost constrain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tandard erro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vel of sub classification required for analysis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F44A-DE8F-463A-A6F7-0B3E6A076F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5E7-B88B-4A3C-B24C-7D316B147A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Rectangle 1026" descr=""/>
          <p:cNvPicPr/>
          <p:nvPr/>
        </p:nvPicPr>
        <p:blipFill>
          <a:blip r:embed="rId1"/>
          <a:stretch/>
        </p:blipFill>
        <p:spPr>
          <a:xfrm>
            <a:off x="420840" y="6480"/>
            <a:ext cx="8046720" cy="91440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1027"/>
          <p:cNvSpPr/>
          <p:nvPr/>
        </p:nvSpPr>
        <p:spPr>
          <a:xfrm>
            <a:off x="2438280" y="1219320"/>
            <a:ext cx="430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ng the Scope for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028"/>
          <p:cNvSpPr/>
          <p:nvPr/>
        </p:nvSpPr>
        <p:spPr>
          <a:xfrm>
            <a:off x="2327760" y="2133720"/>
            <a:ext cx="46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029"/>
          <p:cNvSpPr/>
          <p:nvPr/>
        </p:nvSpPr>
        <p:spPr>
          <a:xfrm>
            <a:off x="3364920" y="3960720"/>
            <a:ext cx="25491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030"/>
          <p:cNvSpPr/>
          <p:nvPr/>
        </p:nvSpPr>
        <p:spPr>
          <a:xfrm>
            <a:off x="4572000" y="1752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031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032"/>
          <p:cNvSpPr/>
          <p:nvPr/>
        </p:nvSpPr>
        <p:spPr>
          <a:xfrm>
            <a:off x="3522960" y="4875120"/>
            <a:ext cx="209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33"/>
          <p:cNvSpPr/>
          <p:nvPr/>
        </p:nvSpPr>
        <p:spPr>
          <a:xfrm>
            <a:off x="3476880" y="5713560"/>
            <a:ext cx="221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034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035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036"/>
          <p:cNvSpPr/>
          <p:nvPr/>
        </p:nvSpPr>
        <p:spPr>
          <a:xfrm>
            <a:off x="3756600" y="3038400"/>
            <a:ext cx="152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37"/>
          <p:cNvSpPr/>
          <p:nvPr/>
        </p:nvSpPr>
        <p:spPr>
          <a:xfrm>
            <a:off x="45720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8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Access to Public Services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1" i="1" lang="en-US" sz="2800" spc="-1" strike="noStrike">
                <a:solidFill>
                  <a:srgbClr val="000099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Lucida Sans Unicode"/>
              </a:rPr>
              <a:t>Inefficienc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difference, </a:t>
            </a:r>
            <a:r>
              <a:rPr b="0" lang="de-DE" sz="2800" spc="-1" strike="noStrike">
                <a:solidFill>
                  <a:srgbClr val="000000"/>
                </a:solidFill>
                <a:latin typeface="Lucida Sans Unicode"/>
              </a:rPr>
              <a:t>Apathy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1" i="1" lang="en-US" sz="2800" spc="-1" strike="noStrike">
                <a:solidFill>
                  <a:srgbClr val="000099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Lucida Sans Unicode"/>
              </a:rPr>
              <a:t>Non Responsiveness</a:t>
            </a:r>
            <a:r>
              <a:rPr b="1" lang="en-US" sz="2800" spc="-1" strike="noStrike">
                <a:solidFill>
                  <a:srgbClr val="0000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mpant corruption, Extortion by `Agents &amp; Middlemen’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i="1" lang="en-US" sz="2800" spc="-1" strike="noStrike">
                <a:solidFill>
                  <a:srgbClr val="000099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Lucida Sans Unicode"/>
              </a:rPr>
              <a:t>Weak Accountability</a:t>
            </a:r>
            <a:r>
              <a:rPr b="0" i="1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ose Systems &amp; Weak Integrity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1" i="1" lang="en-US" sz="2800" spc="-1" strike="noStrike">
                <a:solidFill>
                  <a:srgbClr val="000099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Lucida Sans Unicode"/>
              </a:rPr>
              <a:t>Abuse of Discre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ak Civil Society – </a:t>
            </a:r>
            <a:r>
              <a:rPr b="1" i="1" lang="en-US" sz="2800" spc="-1" strike="noStrike">
                <a:solidFill>
                  <a:srgbClr val="cc3300"/>
                </a:solidFill>
                <a:latin typeface="Lucida Sans Unicode"/>
              </a:rPr>
              <a:t>Low Demand for Good Governa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8C2-9415-44E9-B2A3-C88B3AD715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5A1B-99B6-4CB8-A51D-4710313BD0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ght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ef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repor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 schedu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27FA-9233-4D8C-AD52-2F0AB054BD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t all st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fore launching field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eld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field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EDF-211A-45C8-BEA4-2646651749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ture of proj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ype of respon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ion criter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ple size, sampling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wo broad ty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hea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ut of pocke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63E3-51CD-4B88-9D8D-9EC3E5049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Rectangle 2" descr=""/>
          <p:cNvPicPr/>
          <p:nvPr/>
        </p:nvPicPr>
        <p:blipFill>
          <a:blip r:embed="rId1"/>
          <a:stretch/>
        </p:blipFill>
        <p:spPr>
          <a:xfrm>
            <a:off x="420840" y="6480"/>
            <a:ext cx="8046720" cy="91440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3"/>
          <p:cNvSpPr/>
          <p:nvPr/>
        </p:nvSpPr>
        <p:spPr>
          <a:xfrm>
            <a:off x="2362320" y="838080"/>
            <a:ext cx="441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ng the Scope for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4"/>
          <p:cNvSpPr/>
          <p:nvPr/>
        </p:nvSpPr>
        <p:spPr>
          <a:xfrm>
            <a:off x="4572000" y="22860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3136320" y="2657520"/>
            <a:ext cx="2884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pling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3296520" y="3571920"/>
            <a:ext cx="2549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"/>
          <p:cNvSpPr/>
          <p:nvPr/>
        </p:nvSpPr>
        <p:spPr>
          <a:xfrm>
            <a:off x="4572000" y="1371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8"/>
          <p:cNvSpPr/>
          <p:nvPr/>
        </p:nvSpPr>
        <p:spPr>
          <a:xfrm>
            <a:off x="457200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9"/>
          <p:cNvSpPr/>
          <p:nvPr/>
        </p:nvSpPr>
        <p:spPr>
          <a:xfrm>
            <a:off x="3449160" y="4494240"/>
            <a:ext cx="22428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0"/>
          <p:cNvSpPr/>
          <p:nvPr/>
        </p:nvSpPr>
        <p:spPr>
          <a:xfrm>
            <a:off x="3385440" y="5332320"/>
            <a:ext cx="23936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11"/>
          <p:cNvSpPr/>
          <p:nvPr/>
        </p:nvSpPr>
        <p:spPr>
          <a:xfrm>
            <a:off x="4572000" y="4038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>
            <a:off x="45720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2224440" y="1828800"/>
            <a:ext cx="468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3260520" y="6162840"/>
            <a:ext cx="237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4564080" y="5791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8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8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BDDC-99CF-4D38-A8BB-B532DC343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3"/>
          <p:cNvSpPr/>
          <p:nvPr/>
        </p:nvSpPr>
        <p:spPr>
          <a:xfrm>
            <a:off x="762120" y="1143000"/>
            <a:ext cx="21333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oding &amp; Scru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5029200" y="1066680"/>
            <a:ext cx="21337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ata E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5257800" y="2895480"/>
            <a:ext cx="21337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6"/>
          <p:cNvSpPr/>
          <p:nvPr/>
        </p:nvSpPr>
        <p:spPr>
          <a:xfrm>
            <a:off x="762120" y="2895480"/>
            <a:ext cx="21333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ata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685800" y="4724280"/>
            <a:ext cx="21337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xporting to SP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5257800" y="4648320"/>
            <a:ext cx="21337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Gener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9"/>
          <p:cNvSpPr/>
          <p:nvPr/>
        </p:nvSpPr>
        <p:spPr>
          <a:xfrm>
            <a:off x="3733920" y="114300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10"/>
          <p:cNvSpPr/>
          <p:nvPr/>
        </p:nvSpPr>
        <p:spPr>
          <a:xfrm>
            <a:off x="3581280" y="31240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11"/>
          <p:cNvSpPr/>
          <p:nvPr/>
        </p:nvSpPr>
        <p:spPr>
          <a:xfrm>
            <a:off x="3733920" y="49528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2"/>
          <p:cNvSpPr/>
          <p:nvPr/>
        </p:nvSpPr>
        <p:spPr>
          <a:xfrm>
            <a:off x="6172200" y="2133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3"/>
          <p:cNvSpPr/>
          <p:nvPr/>
        </p:nvSpPr>
        <p:spPr>
          <a:xfrm>
            <a:off x="1600200" y="39625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872-750E-4A34-99F8-A626049C9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tisfaction with behaviour of staf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 statement of finding - percentage satisfied, dissatisfied, ambival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 - general / high/low satisfaction/dissatisf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ation -  training for staff to improve their behavi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E589-5130-42A1-85A8-D88DAB1968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4" name="Object 2"/>
          <p:cNvGraphicFramePr/>
          <p:nvPr/>
        </p:nvGraphicFramePr>
        <p:xfrm>
          <a:off x="685800" y="1295280"/>
          <a:ext cx="7567560" cy="44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95280"/>
                    <a:ext cx="756756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6AE6-C3AC-4F1B-BDF2-F97791A246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"/>
          <p:cNvPicPr/>
          <p:nvPr/>
        </p:nvPicPr>
        <p:blipFill>
          <a:blip r:embed="rId2"/>
          <a:stretch/>
        </p:blipFill>
        <p:spPr>
          <a:xfrm>
            <a:off x="685800" y="1278000"/>
            <a:ext cx="77724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267A-25FF-40D8-8C81-B89993643B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5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2"/>
          <p:cNvGraphicFramePr/>
          <p:nvPr/>
        </p:nvGraphicFramePr>
        <p:xfrm>
          <a:off x="1523880" y="1676520"/>
          <a:ext cx="6096240" cy="35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609624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C2B-091B-4A34-B4B2-E37E5AB855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LID WASTE, BMP (Municipal Government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69% of general households and 20% of slum households dispose their waste through  door-to-door garbage colle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Respondents using door-to-door collection is highest in the  East zone (84%), as compared to South (61%) and West (53%) zon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BLIC TRANSPORTATION, BMTC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82% of the non-slum respondents and 69% of the slum respondents said they were willing to change buses to get to their destination faster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D02-FD90-4628-93B7-0583A1B037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Rectangle 4" descr=""/>
          <p:cNvPicPr/>
          <p:nvPr/>
        </p:nvPicPr>
        <p:blipFill>
          <a:blip r:embed="rId1"/>
          <a:stretch/>
        </p:blipFill>
        <p:spPr>
          <a:xfrm>
            <a:off x="-262080" y="298440"/>
            <a:ext cx="8040960" cy="1158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2"/>
          <p:cNvSpPr/>
          <p:nvPr/>
        </p:nvSpPr>
        <p:spPr>
          <a:xfrm>
            <a:off x="457200" y="1828800"/>
            <a:ext cx="81532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rvices do not benefit the poor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ources not delivering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reasing resources is not the only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371600" y="46483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  <a:ea typeface="Times New Roman"/>
              </a:rPr>
              <a:t>Need to improve the efficiency and effectiveness of public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F3B-DEC2-45DA-A37E-3D99C56FFB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illingness to Pay More for Improve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neral Househol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20" name="Group 4"/>
          <p:cNvGrpSpPr/>
          <p:nvPr/>
        </p:nvGrpSpPr>
        <p:grpSpPr>
          <a:xfrm>
            <a:off x="1066680" y="2220840"/>
            <a:ext cx="6857640" cy="3722760"/>
            <a:chOff x="1066680" y="2220840"/>
            <a:chExt cx="6857640" cy="3722760"/>
          </a:xfrm>
        </p:grpSpPr>
        <p:grpSp>
          <p:nvGrpSpPr>
            <p:cNvPr id="921" name="Group 5"/>
            <p:cNvGrpSpPr/>
            <p:nvPr/>
          </p:nvGrpSpPr>
          <p:grpSpPr>
            <a:xfrm>
              <a:off x="1075320" y="2224800"/>
              <a:ext cx="6838560" cy="3713400"/>
              <a:chOff x="1075320" y="2224800"/>
              <a:chExt cx="6838560" cy="3713400"/>
            </a:xfrm>
          </p:grpSpPr>
          <p:grpSp>
            <p:nvGrpSpPr>
              <p:cNvPr id="922" name="Group 6"/>
              <p:cNvGrpSpPr/>
              <p:nvPr/>
            </p:nvGrpSpPr>
            <p:grpSpPr>
              <a:xfrm>
                <a:off x="1075320" y="2224800"/>
                <a:ext cx="3945240" cy="640080"/>
                <a:chOff x="1075320" y="2224800"/>
                <a:chExt cx="3945240" cy="640080"/>
              </a:xfrm>
            </p:grpSpPr>
            <p:sp>
              <p:nvSpPr>
                <p:cNvPr id="923" name="Rectangle 7"/>
                <p:cNvSpPr/>
                <p:nvPr/>
              </p:nvSpPr>
              <p:spPr>
                <a:xfrm>
                  <a:off x="1204200" y="2224800"/>
                  <a:ext cx="36871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genc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8"/>
                <p:cNvSpPr/>
                <p:nvPr/>
              </p:nvSpPr>
              <p:spPr>
                <a:xfrm>
                  <a:off x="1075320" y="2224800"/>
                  <a:ext cx="3945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Group 9"/>
              <p:cNvGrpSpPr/>
              <p:nvPr/>
            </p:nvGrpSpPr>
            <p:grpSpPr>
              <a:xfrm>
                <a:off x="5020920" y="2224800"/>
                <a:ext cx="2892960" cy="640080"/>
                <a:chOff x="5020920" y="2224800"/>
                <a:chExt cx="2892960" cy="640080"/>
              </a:xfrm>
            </p:grpSpPr>
            <p:sp>
              <p:nvSpPr>
                <p:cNvPr id="926" name="Rectangle 10"/>
                <p:cNvSpPr/>
                <p:nvPr/>
              </p:nvSpPr>
              <p:spPr>
                <a:xfrm>
                  <a:off x="5149080" y="2224800"/>
                  <a:ext cx="2635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% willing to pay mor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Rectangle 11"/>
                <p:cNvSpPr/>
                <p:nvPr/>
              </p:nvSpPr>
              <p:spPr>
                <a:xfrm>
                  <a:off x="5020920" y="2224800"/>
                  <a:ext cx="2892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12"/>
              <p:cNvGrpSpPr/>
              <p:nvPr/>
            </p:nvGrpSpPr>
            <p:grpSpPr>
              <a:xfrm>
                <a:off x="1075320" y="2864880"/>
                <a:ext cx="3945240" cy="486720"/>
                <a:chOff x="1075320" y="2864880"/>
                <a:chExt cx="3945240" cy="486720"/>
              </a:xfrm>
            </p:grpSpPr>
            <p:sp>
              <p:nvSpPr>
                <p:cNvPr id="929" name="Rectangle 13"/>
                <p:cNvSpPr/>
                <p:nvPr/>
              </p:nvSpPr>
              <p:spPr>
                <a:xfrm>
                  <a:off x="1204200" y="2864880"/>
                  <a:ext cx="36871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Water Supply (BWSSB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Rectangle 14"/>
                <p:cNvSpPr/>
                <p:nvPr/>
              </p:nvSpPr>
              <p:spPr>
                <a:xfrm>
                  <a:off x="1075320" y="2864880"/>
                  <a:ext cx="394524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Group 15"/>
              <p:cNvGrpSpPr/>
              <p:nvPr/>
            </p:nvGrpSpPr>
            <p:grpSpPr>
              <a:xfrm>
                <a:off x="5020920" y="2864880"/>
                <a:ext cx="2892960" cy="486720"/>
                <a:chOff x="5020920" y="2864880"/>
                <a:chExt cx="2892960" cy="486720"/>
              </a:xfrm>
            </p:grpSpPr>
            <p:sp>
              <p:nvSpPr>
                <p:cNvPr id="932" name="Rectangle 16"/>
                <p:cNvSpPr/>
                <p:nvPr/>
              </p:nvSpPr>
              <p:spPr>
                <a:xfrm>
                  <a:off x="5149080" y="2864880"/>
                  <a:ext cx="26359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Rectangle 17"/>
                <p:cNvSpPr/>
                <p:nvPr/>
              </p:nvSpPr>
              <p:spPr>
                <a:xfrm>
                  <a:off x="5020920" y="2864880"/>
                  <a:ext cx="28929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18"/>
              <p:cNvGrpSpPr/>
              <p:nvPr/>
            </p:nvGrpSpPr>
            <p:grpSpPr>
              <a:xfrm>
                <a:off x="1075320" y="3351600"/>
                <a:ext cx="3945240" cy="486720"/>
                <a:chOff x="1075320" y="3351600"/>
                <a:chExt cx="3945240" cy="486720"/>
              </a:xfrm>
            </p:grpSpPr>
            <p:sp>
              <p:nvSpPr>
                <p:cNvPr id="935" name="Rectangle 19"/>
                <p:cNvSpPr/>
                <p:nvPr/>
              </p:nvSpPr>
              <p:spPr>
                <a:xfrm>
                  <a:off x="1204200" y="3351600"/>
                  <a:ext cx="36871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ublic Buses (BMTC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Rectangle 20"/>
                <p:cNvSpPr/>
                <p:nvPr/>
              </p:nvSpPr>
              <p:spPr>
                <a:xfrm>
                  <a:off x="1075320" y="3351600"/>
                  <a:ext cx="394524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Group 21"/>
              <p:cNvGrpSpPr/>
              <p:nvPr/>
            </p:nvGrpSpPr>
            <p:grpSpPr>
              <a:xfrm>
                <a:off x="5020920" y="3351600"/>
                <a:ext cx="2892960" cy="486720"/>
                <a:chOff x="5020920" y="3351600"/>
                <a:chExt cx="2892960" cy="486720"/>
              </a:xfrm>
            </p:grpSpPr>
            <p:sp>
              <p:nvSpPr>
                <p:cNvPr id="938" name="Rectangle 22"/>
                <p:cNvSpPr/>
                <p:nvPr/>
              </p:nvSpPr>
              <p:spPr>
                <a:xfrm>
                  <a:off x="5149080" y="3351600"/>
                  <a:ext cx="26359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Rectangle 23"/>
                <p:cNvSpPr/>
                <p:nvPr/>
              </p:nvSpPr>
              <p:spPr>
                <a:xfrm>
                  <a:off x="5020920" y="3351600"/>
                  <a:ext cx="28929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Group 24"/>
              <p:cNvGrpSpPr/>
              <p:nvPr/>
            </p:nvGrpSpPr>
            <p:grpSpPr>
              <a:xfrm>
                <a:off x="1075320" y="3838320"/>
                <a:ext cx="3945240" cy="639720"/>
                <a:chOff x="1075320" y="3838320"/>
                <a:chExt cx="3945240" cy="639720"/>
              </a:xfrm>
            </p:grpSpPr>
            <p:sp>
              <p:nvSpPr>
                <p:cNvPr id="941" name="Rectangle 25"/>
                <p:cNvSpPr/>
                <p:nvPr/>
              </p:nvSpPr>
              <p:spPr>
                <a:xfrm>
                  <a:off x="1204200" y="3838320"/>
                  <a:ext cx="3687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Municipal Government (BMP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Rectangle 26"/>
                <p:cNvSpPr/>
                <p:nvPr/>
              </p:nvSpPr>
              <p:spPr>
                <a:xfrm>
                  <a:off x="1075320" y="3838320"/>
                  <a:ext cx="3945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Group 27"/>
              <p:cNvGrpSpPr/>
              <p:nvPr/>
            </p:nvGrpSpPr>
            <p:grpSpPr>
              <a:xfrm>
                <a:off x="5020920" y="3838320"/>
                <a:ext cx="2892960" cy="639720"/>
                <a:chOff x="5020920" y="3838320"/>
                <a:chExt cx="2892960" cy="639720"/>
              </a:xfrm>
            </p:grpSpPr>
            <p:sp>
              <p:nvSpPr>
                <p:cNvPr id="944" name="Rectangle 28"/>
                <p:cNvSpPr/>
                <p:nvPr/>
              </p:nvSpPr>
              <p:spPr>
                <a:xfrm>
                  <a:off x="5149080" y="3838320"/>
                  <a:ext cx="2635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3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Rectangle 29"/>
                <p:cNvSpPr/>
                <p:nvPr/>
              </p:nvSpPr>
              <p:spPr>
                <a:xfrm>
                  <a:off x="5020920" y="3838320"/>
                  <a:ext cx="2892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30"/>
              <p:cNvGrpSpPr/>
              <p:nvPr/>
            </p:nvGrpSpPr>
            <p:grpSpPr>
              <a:xfrm>
                <a:off x="1075320" y="4478040"/>
                <a:ext cx="3945240" cy="486720"/>
                <a:chOff x="1075320" y="4478040"/>
                <a:chExt cx="3945240" cy="486720"/>
              </a:xfrm>
            </p:grpSpPr>
            <p:sp>
              <p:nvSpPr>
                <p:cNvPr id="947" name="Rectangle 31"/>
                <p:cNvSpPr/>
                <p:nvPr/>
              </p:nvSpPr>
              <p:spPr>
                <a:xfrm>
                  <a:off x="1204200" y="4478040"/>
                  <a:ext cx="36871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Electricity (KPTCL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Rectangle 32"/>
                <p:cNvSpPr/>
                <p:nvPr/>
              </p:nvSpPr>
              <p:spPr>
                <a:xfrm>
                  <a:off x="1075320" y="4478040"/>
                  <a:ext cx="394524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Group 33"/>
              <p:cNvGrpSpPr/>
              <p:nvPr/>
            </p:nvGrpSpPr>
            <p:grpSpPr>
              <a:xfrm>
                <a:off x="5020920" y="4478040"/>
                <a:ext cx="2892960" cy="486720"/>
                <a:chOff x="5020920" y="4478040"/>
                <a:chExt cx="2892960" cy="486720"/>
              </a:xfrm>
            </p:grpSpPr>
            <p:sp>
              <p:nvSpPr>
                <p:cNvPr id="950" name="Rectangle 34"/>
                <p:cNvSpPr/>
                <p:nvPr/>
              </p:nvSpPr>
              <p:spPr>
                <a:xfrm>
                  <a:off x="5149080" y="4478040"/>
                  <a:ext cx="26359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Rectangle 35"/>
                <p:cNvSpPr/>
                <p:nvPr/>
              </p:nvSpPr>
              <p:spPr>
                <a:xfrm>
                  <a:off x="5020920" y="4478040"/>
                  <a:ext cx="28929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36"/>
              <p:cNvGrpSpPr/>
              <p:nvPr/>
            </p:nvGrpSpPr>
            <p:grpSpPr>
              <a:xfrm>
                <a:off x="1075320" y="4964760"/>
                <a:ext cx="3945240" cy="486720"/>
                <a:chOff x="1075320" y="4964760"/>
                <a:chExt cx="3945240" cy="486720"/>
              </a:xfrm>
            </p:grpSpPr>
            <p:sp>
              <p:nvSpPr>
                <p:cNvPr id="953" name="Rectangle 37"/>
                <p:cNvSpPr/>
                <p:nvPr/>
              </p:nvSpPr>
              <p:spPr>
                <a:xfrm>
                  <a:off x="1204200" y="4964760"/>
                  <a:ext cx="36871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ublic Hospital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38"/>
                <p:cNvSpPr/>
                <p:nvPr/>
              </p:nvSpPr>
              <p:spPr>
                <a:xfrm>
                  <a:off x="1075320" y="4964760"/>
                  <a:ext cx="394524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39"/>
              <p:cNvGrpSpPr/>
              <p:nvPr/>
            </p:nvGrpSpPr>
            <p:grpSpPr>
              <a:xfrm>
                <a:off x="5020920" y="4964760"/>
                <a:ext cx="2892960" cy="486720"/>
                <a:chOff x="5020920" y="4964760"/>
                <a:chExt cx="2892960" cy="486720"/>
              </a:xfrm>
            </p:grpSpPr>
            <p:sp>
              <p:nvSpPr>
                <p:cNvPr id="956" name="Rectangle 40"/>
                <p:cNvSpPr/>
                <p:nvPr/>
              </p:nvSpPr>
              <p:spPr>
                <a:xfrm>
                  <a:off x="5149080" y="4964760"/>
                  <a:ext cx="26359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4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Rectangle 41"/>
                <p:cNvSpPr/>
                <p:nvPr/>
              </p:nvSpPr>
              <p:spPr>
                <a:xfrm>
                  <a:off x="5020920" y="4964760"/>
                  <a:ext cx="28929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42"/>
              <p:cNvGrpSpPr/>
              <p:nvPr/>
            </p:nvGrpSpPr>
            <p:grpSpPr>
              <a:xfrm>
                <a:off x="1075320" y="5451480"/>
                <a:ext cx="3945240" cy="486720"/>
                <a:chOff x="1075320" y="5451480"/>
                <a:chExt cx="3945240" cy="486720"/>
              </a:xfrm>
            </p:grpSpPr>
            <p:sp>
              <p:nvSpPr>
                <p:cNvPr id="959" name="Rectangle 43"/>
                <p:cNvSpPr/>
                <p:nvPr/>
              </p:nvSpPr>
              <p:spPr>
                <a:xfrm>
                  <a:off x="1204200" y="5451480"/>
                  <a:ext cx="36871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Telephones (BSNL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Rectangle 44"/>
                <p:cNvSpPr/>
                <p:nvPr/>
              </p:nvSpPr>
              <p:spPr>
                <a:xfrm>
                  <a:off x="1075320" y="5451480"/>
                  <a:ext cx="394524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Group 45"/>
              <p:cNvGrpSpPr/>
              <p:nvPr/>
            </p:nvGrpSpPr>
            <p:grpSpPr>
              <a:xfrm>
                <a:off x="5020920" y="5451480"/>
                <a:ext cx="2892960" cy="486720"/>
                <a:chOff x="5020920" y="5451480"/>
                <a:chExt cx="2892960" cy="486720"/>
              </a:xfrm>
            </p:grpSpPr>
            <p:sp>
              <p:nvSpPr>
                <p:cNvPr id="962" name="Rectangle 46"/>
                <p:cNvSpPr/>
                <p:nvPr/>
              </p:nvSpPr>
              <p:spPr>
                <a:xfrm>
                  <a:off x="5149080" y="5451480"/>
                  <a:ext cx="263592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Rectangle 47"/>
                <p:cNvSpPr/>
                <p:nvPr/>
              </p:nvSpPr>
              <p:spPr>
                <a:xfrm>
                  <a:off x="5020920" y="5451480"/>
                  <a:ext cx="28929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Rectangle 48"/>
            <p:cNvSpPr/>
            <p:nvPr/>
          </p:nvSpPr>
          <p:spPr>
            <a:xfrm>
              <a:off x="1066680" y="2220840"/>
              <a:ext cx="6857640" cy="3722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788-67CA-4D14-81DA-CB3730F9A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70880" cy="115884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ccess &amp; Usage of Services by the Poor and the Rest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68" name="Group 4"/>
          <p:cNvGrpSpPr/>
          <p:nvPr/>
        </p:nvGrpSpPr>
        <p:grpSpPr>
          <a:xfrm>
            <a:off x="533520" y="2057400"/>
            <a:ext cx="8076600" cy="4038120"/>
            <a:chOff x="533520" y="2057400"/>
            <a:chExt cx="8076600" cy="4038120"/>
          </a:xfrm>
        </p:grpSpPr>
        <p:grpSp>
          <p:nvGrpSpPr>
            <p:cNvPr id="969" name="Group 5"/>
            <p:cNvGrpSpPr/>
            <p:nvPr/>
          </p:nvGrpSpPr>
          <p:grpSpPr>
            <a:xfrm>
              <a:off x="538920" y="2062080"/>
              <a:ext cx="8064000" cy="4027320"/>
              <a:chOff x="538920" y="2062080"/>
              <a:chExt cx="8064000" cy="4027320"/>
            </a:xfrm>
          </p:grpSpPr>
          <p:grpSp>
            <p:nvGrpSpPr>
              <p:cNvPr id="970" name="Group 6"/>
              <p:cNvGrpSpPr/>
              <p:nvPr/>
            </p:nvGrpSpPr>
            <p:grpSpPr>
              <a:xfrm>
                <a:off x="538920" y="2062080"/>
                <a:ext cx="2502360" cy="1150200"/>
                <a:chOff x="538920" y="2062080"/>
                <a:chExt cx="2502360" cy="1150200"/>
              </a:xfrm>
            </p:grpSpPr>
            <p:sp>
              <p:nvSpPr>
                <p:cNvPr id="971" name="Rectangle 7"/>
                <p:cNvSpPr/>
                <p:nvPr/>
              </p:nvSpPr>
              <p:spPr>
                <a:xfrm>
                  <a:off x="622800" y="2062080"/>
                  <a:ext cx="2334240" cy="11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ublic Servic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Rectangle 8"/>
                <p:cNvSpPr/>
                <p:nvPr/>
              </p:nvSpPr>
              <p:spPr>
                <a:xfrm>
                  <a:off x="538920" y="2062080"/>
                  <a:ext cx="2502360" cy="115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9"/>
              <p:cNvGrpSpPr/>
              <p:nvPr/>
            </p:nvGrpSpPr>
            <p:grpSpPr>
              <a:xfrm>
                <a:off x="3041640" y="2062080"/>
                <a:ext cx="2638800" cy="574920"/>
                <a:chOff x="3041640" y="2062080"/>
                <a:chExt cx="2638800" cy="574920"/>
              </a:xfrm>
            </p:grpSpPr>
            <p:sp>
              <p:nvSpPr>
                <p:cNvPr id="974" name="Rectangle 10"/>
                <p:cNvSpPr/>
                <p:nvPr/>
              </p:nvSpPr>
              <p:spPr>
                <a:xfrm>
                  <a:off x="3125160" y="2062080"/>
                  <a:ext cx="24714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cces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Rectangle 11"/>
                <p:cNvSpPr/>
                <p:nvPr/>
              </p:nvSpPr>
              <p:spPr>
                <a:xfrm>
                  <a:off x="3041640" y="2062080"/>
                  <a:ext cx="263880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12"/>
              <p:cNvGrpSpPr/>
              <p:nvPr/>
            </p:nvGrpSpPr>
            <p:grpSpPr>
              <a:xfrm>
                <a:off x="5680800" y="2062080"/>
                <a:ext cx="2922120" cy="574920"/>
                <a:chOff x="5680800" y="2062080"/>
                <a:chExt cx="2922120" cy="574920"/>
              </a:xfrm>
            </p:grpSpPr>
            <p:sp>
              <p:nvSpPr>
                <p:cNvPr id="977" name="Rectangle 13"/>
                <p:cNvSpPr/>
                <p:nvPr/>
              </p:nvSpPr>
              <p:spPr>
                <a:xfrm>
                  <a:off x="5764680" y="2062080"/>
                  <a:ext cx="27543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Us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Rectangle 14"/>
                <p:cNvSpPr/>
                <p:nvPr/>
              </p:nvSpPr>
              <p:spPr>
                <a:xfrm>
                  <a:off x="5680800" y="2062080"/>
                  <a:ext cx="29221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Group 15"/>
              <p:cNvGrpSpPr/>
              <p:nvPr/>
            </p:nvGrpSpPr>
            <p:grpSpPr>
              <a:xfrm>
                <a:off x="3041640" y="2637360"/>
                <a:ext cx="1292760" cy="574920"/>
                <a:chOff x="3041640" y="2637360"/>
                <a:chExt cx="1292760" cy="574920"/>
              </a:xfrm>
            </p:grpSpPr>
            <p:sp>
              <p:nvSpPr>
                <p:cNvPr id="980" name="Rectangle 16"/>
                <p:cNvSpPr/>
                <p:nvPr/>
              </p:nvSpPr>
              <p:spPr>
                <a:xfrm>
                  <a:off x="3125160" y="2637360"/>
                  <a:ext cx="1125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IC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Rectangle 17"/>
                <p:cNvSpPr/>
                <p:nvPr/>
              </p:nvSpPr>
              <p:spPr>
                <a:xfrm>
                  <a:off x="3041640" y="2637360"/>
                  <a:ext cx="12927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18"/>
              <p:cNvGrpSpPr/>
              <p:nvPr/>
            </p:nvGrpSpPr>
            <p:grpSpPr>
              <a:xfrm>
                <a:off x="4334760" y="2637360"/>
                <a:ext cx="1345320" cy="574920"/>
                <a:chOff x="4334760" y="2637360"/>
                <a:chExt cx="1345320" cy="574920"/>
              </a:xfrm>
            </p:grpSpPr>
            <p:sp>
              <p:nvSpPr>
                <p:cNvPr id="983" name="Rectangle 19"/>
                <p:cNvSpPr/>
                <p:nvPr/>
              </p:nvSpPr>
              <p:spPr>
                <a:xfrm>
                  <a:off x="4418640" y="2637360"/>
                  <a:ext cx="11775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Oth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Rectangle 20"/>
                <p:cNvSpPr/>
                <p:nvPr/>
              </p:nvSpPr>
              <p:spPr>
                <a:xfrm>
                  <a:off x="4334760" y="2637360"/>
                  <a:ext cx="13453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Group 21"/>
              <p:cNvGrpSpPr/>
              <p:nvPr/>
            </p:nvGrpSpPr>
            <p:grpSpPr>
              <a:xfrm>
                <a:off x="5680800" y="2637360"/>
                <a:ext cx="1460880" cy="574920"/>
                <a:chOff x="5680800" y="2637360"/>
                <a:chExt cx="1460880" cy="574920"/>
              </a:xfrm>
            </p:grpSpPr>
            <p:sp>
              <p:nvSpPr>
                <p:cNvPr id="986" name="Rectangle 22"/>
                <p:cNvSpPr/>
                <p:nvPr/>
              </p:nvSpPr>
              <p:spPr>
                <a:xfrm>
                  <a:off x="5764680" y="2637360"/>
                  <a:ext cx="12927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IC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Rectangle 23"/>
                <p:cNvSpPr/>
                <p:nvPr/>
              </p:nvSpPr>
              <p:spPr>
                <a:xfrm>
                  <a:off x="5680800" y="2637360"/>
                  <a:ext cx="14608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Group 24"/>
              <p:cNvGrpSpPr/>
              <p:nvPr/>
            </p:nvGrpSpPr>
            <p:grpSpPr>
              <a:xfrm>
                <a:off x="7142400" y="2637360"/>
                <a:ext cx="1460520" cy="574920"/>
                <a:chOff x="7142400" y="2637360"/>
                <a:chExt cx="1460520" cy="574920"/>
              </a:xfrm>
            </p:grpSpPr>
            <p:sp>
              <p:nvSpPr>
                <p:cNvPr id="989" name="Rectangle 25"/>
                <p:cNvSpPr/>
                <p:nvPr/>
              </p:nvSpPr>
              <p:spPr>
                <a:xfrm>
                  <a:off x="7225920" y="2637360"/>
                  <a:ext cx="1293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Oth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26"/>
                <p:cNvSpPr/>
                <p:nvPr/>
              </p:nvSpPr>
              <p:spPr>
                <a:xfrm>
                  <a:off x="7142400" y="2637360"/>
                  <a:ext cx="14605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Group 27"/>
              <p:cNvGrpSpPr/>
              <p:nvPr/>
            </p:nvGrpSpPr>
            <p:grpSpPr>
              <a:xfrm>
                <a:off x="538920" y="3212640"/>
                <a:ext cx="2502360" cy="574920"/>
                <a:chOff x="538920" y="3212640"/>
                <a:chExt cx="2502360" cy="574920"/>
              </a:xfrm>
            </p:grpSpPr>
            <p:sp>
              <p:nvSpPr>
                <p:cNvPr id="992" name="Rectangle 28"/>
                <p:cNvSpPr/>
                <p:nvPr/>
              </p:nvSpPr>
              <p:spPr>
                <a:xfrm>
                  <a:off x="622800" y="3212640"/>
                  <a:ext cx="233424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Drinking Wa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Rectangle 29"/>
                <p:cNvSpPr/>
                <p:nvPr/>
              </p:nvSpPr>
              <p:spPr>
                <a:xfrm>
                  <a:off x="538920" y="3212640"/>
                  <a:ext cx="25023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Group 30"/>
              <p:cNvGrpSpPr/>
              <p:nvPr/>
            </p:nvGrpSpPr>
            <p:grpSpPr>
              <a:xfrm>
                <a:off x="3041640" y="3212640"/>
                <a:ext cx="1292760" cy="574920"/>
                <a:chOff x="3041640" y="3212640"/>
                <a:chExt cx="1292760" cy="574920"/>
              </a:xfrm>
            </p:grpSpPr>
            <p:sp>
              <p:nvSpPr>
                <p:cNvPr id="995" name="Rectangle 31"/>
                <p:cNvSpPr/>
                <p:nvPr/>
              </p:nvSpPr>
              <p:spPr>
                <a:xfrm>
                  <a:off x="3125160" y="3212640"/>
                  <a:ext cx="1125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32"/>
                <p:cNvSpPr/>
                <p:nvPr/>
              </p:nvSpPr>
              <p:spPr>
                <a:xfrm>
                  <a:off x="3041640" y="3212640"/>
                  <a:ext cx="12927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33"/>
              <p:cNvGrpSpPr/>
              <p:nvPr/>
            </p:nvGrpSpPr>
            <p:grpSpPr>
              <a:xfrm>
                <a:off x="4334760" y="3212640"/>
                <a:ext cx="1345320" cy="574920"/>
                <a:chOff x="4334760" y="3212640"/>
                <a:chExt cx="1345320" cy="574920"/>
              </a:xfrm>
            </p:grpSpPr>
            <p:sp>
              <p:nvSpPr>
                <p:cNvPr id="998" name="Rectangle 34"/>
                <p:cNvSpPr/>
                <p:nvPr/>
              </p:nvSpPr>
              <p:spPr>
                <a:xfrm>
                  <a:off x="4418640" y="3212640"/>
                  <a:ext cx="11775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Rectangle 35"/>
                <p:cNvSpPr/>
                <p:nvPr/>
              </p:nvSpPr>
              <p:spPr>
                <a:xfrm>
                  <a:off x="4334760" y="3212640"/>
                  <a:ext cx="13453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36"/>
              <p:cNvGrpSpPr/>
              <p:nvPr/>
            </p:nvGrpSpPr>
            <p:grpSpPr>
              <a:xfrm>
                <a:off x="5680800" y="3212640"/>
                <a:ext cx="1460880" cy="574920"/>
                <a:chOff x="5680800" y="3212640"/>
                <a:chExt cx="1460880" cy="574920"/>
              </a:xfrm>
            </p:grpSpPr>
            <p:sp>
              <p:nvSpPr>
                <p:cNvPr id="1001" name="Rectangle 37"/>
                <p:cNvSpPr/>
                <p:nvPr/>
              </p:nvSpPr>
              <p:spPr>
                <a:xfrm>
                  <a:off x="5764680" y="3212640"/>
                  <a:ext cx="12927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6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Rectangle 38"/>
                <p:cNvSpPr/>
                <p:nvPr/>
              </p:nvSpPr>
              <p:spPr>
                <a:xfrm>
                  <a:off x="5680800" y="3212640"/>
                  <a:ext cx="14608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Group 39"/>
              <p:cNvGrpSpPr/>
              <p:nvPr/>
            </p:nvGrpSpPr>
            <p:grpSpPr>
              <a:xfrm>
                <a:off x="7142400" y="3212640"/>
                <a:ext cx="1460520" cy="574920"/>
                <a:chOff x="7142400" y="3212640"/>
                <a:chExt cx="1460520" cy="574920"/>
              </a:xfrm>
            </p:grpSpPr>
            <p:sp>
              <p:nvSpPr>
                <p:cNvPr id="1004" name="Rectangle 40"/>
                <p:cNvSpPr/>
                <p:nvPr/>
              </p:nvSpPr>
              <p:spPr>
                <a:xfrm>
                  <a:off x="7225920" y="3212640"/>
                  <a:ext cx="1293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6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41"/>
                <p:cNvSpPr/>
                <p:nvPr/>
              </p:nvSpPr>
              <p:spPr>
                <a:xfrm>
                  <a:off x="7142400" y="3212640"/>
                  <a:ext cx="14605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Group 42"/>
              <p:cNvGrpSpPr/>
              <p:nvPr/>
            </p:nvGrpSpPr>
            <p:grpSpPr>
              <a:xfrm>
                <a:off x="538920" y="3787920"/>
                <a:ext cx="2502360" cy="574920"/>
                <a:chOff x="538920" y="3787920"/>
                <a:chExt cx="2502360" cy="574920"/>
              </a:xfrm>
            </p:grpSpPr>
            <p:sp>
              <p:nvSpPr>
                <p:cNvPr id="1007" name="Rectangle 43"/>
                <p:cNvSpPr/>
                <p:nvPr/>
              </p:nvSpPr>
              <p:spPr>
                <a:xfrm>
                  <a:off x="622800" y="3787920"/>
                  <a:ext cx="233424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Health Care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44"/>
                <p:cNvSpPr/>
                <p:nvPr/>
              </p:nvSpPr>
              <p:spPr>
                <a:xfrm>
                  <a:off x="538920" y="3787920"/>
                  <a:ext cx="25023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45"/>
              <p:cNvGrpSpPr/>
              <p:nvPr/>
            </p:nvGrpSpPr>
            <p:grpSpPr>
              <a:xfrm>
                <a:off x="3041640" y="3787920"/>
                <a:ext cx="1292760" cy="574920"/>
                <a:chOff x="3041640" y="3787920"/>
                <a:chExt cx="1292760" cy="574920"/>
              </a:xfrm>
            </p:grpSpPr>
            <p:sp>
              <p:nvSpPr>
                <p:cNvPr id="1010" name="Rectangle 46"/>
                <p:cNvSpPr/>
                <p:nvPr/>
              </p:nvSpPr>
              <p:spPr>
                <a:xfrm>
                  <a:off x="3125160" y="3787920"/>
                  <a:ext cx="1125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3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Rectangle 47"/>
                <p:cNvSpPr/>
                <p:nvPr/>
              </p:nvSpPr>
              <p:spPr>
                <a:xfrm>
                  <a:off x="3041640" y="3787920"/>
                  <a:ext cx="12927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Group 48"/>
              <p:cNvGrpSpPr/>
              <p:nvPr/>
            </p:nvGrpSpPr>
            <p:grpSpPr>
              <a:xfrm>
                <a:off x="4334760" y="3787920"/>
                <a:ext cx="1345320" cy="574920"/>
                <a:chOff x="4334760" y="3787920"/>
                <a:chExt cx="1345320" cy="574920"/>
              </a:xfrm>
            </p:grpSpPr>
            <p:sp>
              <p:nvSpPr>
                <p:cNvPr id="1013" name="Rectangle 49"/>
                <p:cNvSpPr/>
                <p:nvPr/>
              </p:nvSpPr>
              <p:spPr>
                <a:xfrm>
                  <a:off x="4418640" y="3787920"/>
                  <a:ext cx="11775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Rectangle 50"/>
                <p:cNvSpPr/>
                <p:nvPr/>
              </p:nvSpPr>
              <p:spPr>
                <a:xfrm>
                  <a:off x="4334760" y="3787920"/>
                  <a:ext cx="13453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Group 51"/>
              <p:cNvGrpSpPr/>
              <p:nvPr/>
            </p:nvGrpSpPr>
            <p:grpSpPr>
              <a:xfrm>
                <a:off x="5680800" y="3787920"/>
                <a:ext cx="1460880" cy="574920"/>
                <a:chOff x="5680800" y="3787920"/>
                <a:chExt cx="1460880" cy="574920"/>
              </a:xfrm>
            </p:grpSpPr>
            <p:sp>
              <p:nvSpPr>
                <p:cNvPr id="1016" name="Rectangle 52"/>
                <p:cNvSpPr/>
                <p:nvPr/>
              </p:nvSpPr>
              <p:spPr>
                <a:xfrm>
                  <a:off x="5764680" y="3787920"/>
                  <a:ext cx="12927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53"/>
                <p:cNvSpPr/>
                <p:nvPr/>
              </p:nvSpPr>
              <p:spPr>
                <a:xfrm>
                  <a:off x="5680800" y="3787920"/>
                  <a:ext cx="14608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Group 54"/>
              <p:cNvGrpSpPr/>
              <p:nvPr/>
            </p:nvGrpSpPr>
            <p:grpSpPr>
              <a:xfrm>
                <a:off x="7142400" y="3787920"/>
                <a:ext cx="1460520" cy="574920"/>
                <a:chOff x="7142400" y="3787920"/>
                <a:chExt cx="1460520" cy="574920"/>
              </a:xfrm>
            </p:grpSpPr>
            <p:sp>
              <p:nvSpPr>
                <p:cNvPr id="1019" name="Rectangle 55"/>
                <p:cNvSpPr/>
                <p:nvPr/>
              </p:nvSpPr>
              <p:spPr>
                <a:xfrm>
                  <a:off x="7225920" y="3787920"/>
                  <a:ext cx="1293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4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56"/>
                <p:cNvSpPr/>
                <p:nvPr/>
              </p:nvSpPr>
              <p:spPr>
                <a:xfrm>
                  <a:off x="7142400" y="3787920"/>
                  <a:ext cx="14605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Group 57"/>
              <p:cNvGrpSpPr/>
              <p:nvPr/>
            </p:nvGrpSpPr>
            <p:grpSpPr>
              <a:xfrm>
                <a:off x="538920" y="4363560"/>
                <a:ext cx="2502360" cy="574920"/>
                <a:chOff x="538920" y="4363560"/>
                <a:chExt cx="2502360" cy="574920"/>
              </a:xfrm>
            </p:grpSpPr>
            <p:sp>
              <p:nvSpPr>
                <p:cNvPr id="1022" name="Rectangle 58"/>
                <p:cNvSpPr/>
                <p:nvPr/>
              </p:nvSpPr>
              <p:spPr>
                <a:xfrm>
                  <a:off x="622800" y="4363560"/>
                  <a:ext cx="233424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ublic Transpo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Rectangle 59"/>
                <p:cNvSpPr/>
                <p:nvPr/>
              </p:nvSpPr>
              <p:spPr>
                <a:xfrm>
                  <a:off x="538920" y="4363560"/>
                  <a:ext cx="25023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Group 60"/>
              <p:cNvGrpSpPr/>
              <p:nvPr/>
            </p:nvGrpSpPr>
            <p:grpSpPr>
              <a:xfrm>
                <a:off x="3041640" y="4363560"/>
                <a:ext cx="1292760" cy="574920"/>
                <a:chOff x="3041640" y="4363560"/>
                <a:chExt cx="1292760" cy="574920"/>
              </a:xfrm>
            </p:grpSpPr>
            <p:sp>
              <p:nvSpPr>
                <p:cNvPr id="1025" name="Rectangle 61"/>
                <p:cNvSpPr/>
                <p:nvPr/>
              </p:nvSpPr>
              <p:spPr>
                <a:xfrm>
                  <a:off x="3125160" y="4363560"/>
                  <a:ext cx="1125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4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Rectangle 62"/>
                <p:cNvSpPr/>
                <p:nvPr/>
              </p:nvSpPr>
              <p:spPr>
                <a:xfrm>
                  <a:off x="3041640" y="4363560"/>
                  <a:ext cx="12927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Group 63"/>
              <p:cNvGrpSpPr/>
              <p:nvPr/>
            </p:nvGrpSpPr>
            <p:grpSpPr>
              <a:xfrm>
                <a:off x="4334760" y="4363560"/>
                <a:ext cx="1345320" cy="574920"/>
                <a:chOff x="4334760" y="4363560"/>
                <a:chExt cx="1345320" cy="574920"/>
              </a:xfrm>
            </p:grpSpPr>
            <p:sp>
              <p:nvSpPr>
                <p:cNvPr id="1028" name="Rectangle 64"/>
                <p:cNvSpPr/>
                <p:nvPr/>
              </p:nvSpPr>
              <p:spPr>
                <a:xfrm>
                  <a:off x="4418640" y="4363560"/>
                  <a:ext cx="11775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Rectangle 65"/>
                <p:cNvSpPr/>
                <p:nvPr/>
              </p:nvSpPr>
              <p:spPr>
                <a:xfrm>
                  <a:off x="4334760" y="4363560"/>
                  <a:ext cx="13453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Group 66"/>
              <p:cNvGrpSpPr/>
              <p:nvPr/>
            </p:nvGrpSpPr>
            <p:grpSpPr>
              <a:xfrm>
                <a:off x="5680800" y="4363560"/>
                <a:ext cx="1460880" cy="574920"/>
                <a:chOff x="5680800" y="4363560"/>
                <a:chExt cx="1460880" cy="574920"/>
              </a:xfrm>
            </p:grpSpPr>
            <p:sp>
              <p:nvSpPr>
                <p:cNvPr id="1031" name="Rectangle 67"/>
                <p:cNvSpPr/>
                <p:nvPr/>
              </p:nvSpPr>
              <p:spPr>
                <a:xfrm>
                  <a:off x="5764680" y="4363560"/>
                  <a:ext cx="12927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Rectangle 68"/>
                <p:cNvSpPr/>
                <p:nvPr/>
              </p:nvSpPr>
              <p:spPr>
                <a:xfrm>
                  <a:off x="5680800" y="4363560"/>
                  <a:ext cx="14608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Group 69"/>
              <p:cNvGrpSpPr/>
              <p:nvPr/>
            </p:nvGrpSpPr>
            <p:grpSpPr>
              <a:xfrm>
                <a:off x="7142400" y="4363560"/>
                <a:ext cx="1460520" cy="574920"/>
                <a:chOff x="7142400" y="4363560"/>
                <a:chExt cx="1460520" cy="574920"/>
              </a:xfrm>
            </p:grpSpPr>
            <p:sp>
              <p:nvSpPr>
                <p:cNvPr id="1034" name="Rectangle 70"/>
                <p:cNvSpPr/>
                <p:nvPr/>
              </p:nvSpPr>
              <p:spPr>
                <a:xfrm>
                  <a:off x="7225920" y="4363560"/>
                  <a:ext cx="1293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4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Rectangle 71"/>
                <p:cNvSpPr/>
                <p:nvPr/>
              </p:nvSpPr>
              <p:spPr>
                <a:xfrm>
                  <a:off x="7142400" y="4363560"/>
                  <a:ext cx="14605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Group 72"/>
              <p:cNvGrpSpPr/>
              <p:nvPr/>
            </p:nvGrpSpPr>
            <p:grpSpPr>
              <a:xfrm>
                <a:off x="538920" y="4938840"/>
                <a:ext cx="2502360" cy="574920"/>
                <a:chOff x="538920" y="4938840"/>
                <a:chExt cx="2502360" cy="574920"/>
              </a:xfrm>
            </p:grpSpPr>
            <p:sp>
              <p:nvSpPr>
                <p:cNvPr id="1037" name="Rectangle 73"/>
                <p:cNvSpPr/>
                <p:nvPr/>
              </p:nvSpPr>
              <p:spPr>
                <a:xfrm>
                  <a:off x="622800" y="4938840"/>
                  <a:ext cx="233424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ub. Distribu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Rectangle 74"/>
                <p:cNvSpPr/>
                <p:nvPr/>
              </p:nvSpPr>
              <p:spPr>
                <a:xfrm>
                  <a:off x="538920" y="4938840"/>
                  <a:ext cx="25023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Group 75"/>
              <p:cNvGrpSpPr/>
              <p:nvPr/>
            </p:nvGrpSpPr>
            <p:grpSpPr>
              <a:xfrm>
                <a:off x="3041640" y="4938840"/>
                <a:ext cx="1292760" cy="574920"/>
                <a:chOff x="3041640" y="4938840"/>
                <a:chExt cx="1292760" cy="574920"/>
              </a:xfrm>
            </p:grpSpPr>
            <p:sp>
              <p:nvSpPr>
                <p:cNvPr id="1040" name="Rectangle 76"/>
                <p:cNvSpPr/>
                <p:nvPr/>
              </p:nvSpPr>
              <p:spPr>
                <a:xfrm>
                  <a:off x="3125160" y="4938840"/>
                  <a:ext cx="1125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Rectangle 77"/>
                <p:cNvSpPr/>
                <p:nvPr/>
              </p:nvSpPr>
              <p:spPr>
                <a:xfrm>
                  <a:off x="3041640" y="4938840"/>
                  <a:ext cx="129276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Group 78"/>
              <p:cNvGrpSpPr/>
              <p:nvPr/>
            </p:nvGrpSpPr>
            <p:grpSpPr>
              <a:xfrm>
                <a:off x="4334760" y="4938840"/>
                <a:ext cx="1345320" cy="574920"/>
                <a:chOff x="4334760" y="4938840"/>
                <a:chExt cx="1345320" cy="574920"/>
              </a:xfrm>
            </p:grpSpPr>
            <p:sp>
              <p:nvSpPr>
                <p:cNvPr id="1043" name="Rectangle 79"/>
                <p:cNvSpPr/>
                <p:nvPr/>
              </p:nvSpPr>
              <p:spPr>
                <a:xfrm>
                  <a:off x="4418640" y="4938840"/>
                  <a:ext cx="11775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8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80"/>
                <p:cNvSpPr/>
                <p:nvPr/>
              </p:nvSpPr>
              <p:spPr>
                <a:xfrm>
                  <a:off x="4334760" y="4938840"/>
                  <a:ext cx="13453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Group 81"/>
              <p:cNvGrpSpPr/>
              <p:nvPr/>
            </p:nvGrpSpPr>
            <p:grpSpPr>
              <a:xfrm>
                <a:off x="5680800" y="4938840"/>
                <a:ext cx="1460880" cy="574920"/>
                <a:chOff x="5680800" y="4938840"/>
                <a:chExt cx="1460880" cy="574920"/>
              </a:xfrm>
            </p:grpSpPr>
            <p:sp>
              <p:nvSpPr>
                <p:cNvPr id="1046" name="Rectangle 82"/>
                <p:cNvSpPr/>
                <p:nvPr/>
              </p:nvSpPr>
              <p:spPr>
                <a:xfrm>
                  <a:off x="5764680" y="4938840"/>
                  <a:ext cx="12927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Rectangle 83"/>
                <p:cNvSpPr/>
                <p:nvPr/>
              </p:nvSpPr>
              <p:spPr>
                <a:xfrm>
                  <a:off x="5680800" y="4938840"/>
                  <a:ext cx="14608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Group 84"/>
              <p:cNvGrpSpPr/>
              <p:nvPr/>
            </p:nvGrpSpPr>
            <p:grpSpPr>
              <a:xfrm>
                <a:off x="7142400" y="4938840"/>
                <a:ext cx="1460520" cy="574920"/>
                <a:chOff x="7142400" y="4938840"/>
                <a:chExt cx="1460520" cy="574920"/>
              </a:xfrm>
            </p:grpSpPr>
            <p:sp>
              <p:nvSpPr>
                <p:cNvPr id="1049" name="Rectangle 85"/>
                <p:cNvSpPr/>
                <p:nvPr/>
              </p:nvSpPr>
              <p:spPr>
                <a:xfrm>
                  <a:off x="7225920" y="4938840"/>
                  <a:ext cx="1293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7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Rectangle 86"/>
                <p:cNvSpPr/>
                <p:nvPr/>
              </p:nvSpPr>
              <p:spPr>
                <a:xfrm>
                  <a:off x="7142400" y="4938840"/>
                  <a:ext cx="146052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Group 87"/>
              <p:cNvGrpSpPr/>
              <p:nvPr/>
            </p:nvGrpSpPr>
            <p:grpSpPr>
              <a:xfrm>
                <a:off x="538920" y="5514120"/>
                <a:ext cx="2502360" cy="575280"/>
                <a:chOff x="538920" y="5514120"/>
                <a:chExt cx="2502360" cy="575280"/>
              </a:xfrm>
            </p:grpSpPr>
            <p:sp>
              <p:nvSpPr>
                <p:cNvPr id="1052" name="Rectangle 88"/>
                <p:cNvSpPr/>
                <p:nvPr/>
              </p:nvSpPr>
              <p:spPr>
                <a:xfrm>
                  <a:off x="622800" y="5514120"/>
                  <a:ext cx="233424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Primary Schoo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Rectangle 89"/>
                <p:cNvSpPr/>
                <p:nvPr/>
              </p:nvSpPr>
              <p:spPr>
                <a:xfrm>
                  <a:off x="538920" y="5514120"/>
                  <a:ext cx="250236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Group 90"/>
              <p:cNvGrpSpPr/>
              <p:nvPr/>
            </p:nvGrpSpPr>
            <p:grpSpPr>
              <a:xfrm>
                <a:off x="3041640" y="5514120"/>
                <a:ext cx="1292760" cy="575280"/>
                <a:chOff x="3041640" y="5514120"/>
                <a:chExt cx="1292760" cy="575280"/>
              </a:xfrm>
            </p:grpSpPr>
            <p:sp>
              <p:nvSpPr>
                <p:cNvPr id="1055" name="Rectangle 91"/>
                <p:cNvSpPr/>
                <p:nvPr/>
              </p:nvSpPr>
              <p:spPr>
                <a:xfrm>
                  <a:off x="3125160" y="5514120"/>
                  <a:ext cx="112500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Rectangle 92"/>
                <p:cNvSpPr/>
                <p:nvPr/>
              </p:nvSpPr>
              <p:spPr>
                <a:xfrm>
                  <a:off x="3041640" y="5514120"/>
                  <a:ext cx="129276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93"/>
              <p:cNvGrpSpPr/>
              <p:nvPr/>
            </p:nvGrpSpPr>
            <p:grpSpPr>
              <a:xfrm>
                <a:off x="4334760" y="5514120"/>
                <a:ext cx="1345320" cy="575280"/>
                <a:chOff x="4334760" y="5514120"/>
                <a:chExt cx="1345320" cy="575280"/>
              </a:xfrm>
            </p:grpSpPr>
            <p:sp>
              <p:nvSpPr>
                <p:cNvPr id="1058" name="Rectangle 94"/>
                <p:cNvSpPr/>
                <p:nvPr/>
              </p:nvSpPr>
              <p:spPr>
                <a:xfrm>
                  <a:off x="4418640" y="5514120"/>
                  <a:ext cx="117756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6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Rectangle 95"/>
                <p:cNvSpPr/>
                <p:nvPr/>
              </p:nvSpPr>
              <p:spPr>
                <a:xfrm>
                  <a:off x="4334760" y="5514120"/>
                  <a:ext cx="134532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Group 96"/>
              <p:cNvGrpSpPr/>
              <p:nvPr/>
            </p:nvGrpSpPr>
            <p:grpSpPr>
              <a:xfrm>
                <a:off x="5680800" y="5514120"/>
                <a:ext cx="1460880" cy="575280"/>
                <a:chOff x="5680800" y="5514120"/>
                <a:chExt cx="1460880" cy="575280"/>
              </a:xfrm>
            </p:grpSpPr>
            <p:sp>
              <p:nvSpPr>
                <p:cNvPr id="1061" name="Rectangle 97"/>
                <p:cNvSpPr/>
                <p:nvPr/>
              </p:nvSpPr>
              <p:spPr>
                <a:xfrm>
                  <a:off x="5764680" y="5514120"/>
                  <a:ext cx="129276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9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Rectangle 98"/>
                <p:cNvSpPr/>
                <p:nvPr/>
              </p:nvSpPr>
              <p:spPr>
                <a:xfrm>
                  <a:off x="5680800" y="5514120"/>
                  <a:ext cx="146088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Group 99"/>
              <p:cNvGrpSpPr/>
              <p:nvPr/>
            </p:nvGrpSpPr>
            <p:grpSpPr>
              <a:xfrm>
                <a:off x="7142400" y="5514120"/>
                <a:ext cx="1460520" cy="575280"/>
                <a:chOff x="7142400" y="5514120"/>
                <a:chExt cx="1460520" cy="575280"/>
              </a:xfrm>
            </p:grpSpPr>
            <p:sp>
              <p:nvSpPr>
                <p:cNvPr id="1064" name="Rectangle 100"/>
                <p:cNvSpPr/>
                <p:nvPr/>
              </p:nvSpPr>
              <p:spPr>
                <a:xfrm>
                  <a:off x="7225920" y="5514120"/>
                  <a:ext cx="129312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7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Rectangle 101"/>
                <p:cNvSpPr/>
                <p:nvPr/>
              </p:nvSpPr>
              <p:spPr>
                <a:xfrm>
                  <a:off x="7142400" y="5514120"/>
                  <a:ext cx="146052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6" name="Rectangle 102"/>
            <p:cNvSpPr/>
            <p:nvPr/>
          </p:nvSpPr>
          <p:spPr>
            <a:xfrm>
              <a:off x="533520" y="2057400"/>
              <a:ext cx="807660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36A-FED3-4D7D-A726-B387C2517C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70880" cy="115884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ccess &amp; Usage of Services by Categories of Sta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238608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1" name="Object 2"/>
          <p:cNvGraphicFramePr/>
          <p:nvPr/>
        </p:nvGraphicFramePr>
        <p:xfrm>
          <a:off x="990720" y="1874880"/>
          <a:ext cx="7391160" cy="368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74880"/>
                    <a:ext cx="73911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Rectangle 6"/>
          <p:cNvSpPr/>
          <p:nvPr/>
        </p:nvSpPr>
        <p:spPr>
          <a:xfrm>
            <a:off x="6019920" y="510552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hort communicative report (10-15 pag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ull report with annexu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eparate methodology report/no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ress note (Q &amp; A form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13F-41F9-4227-B2D8-46457BF1A2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075B-EB58-4AE6-B09F-E9A00CE29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"/>
          <p:cNvSpPr/>
          <p:nvPr/>
        </p:nvSpPr>
        <p:spPr>
          <a:xfrm>
            <a:off x="647640" y="1522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rebuchet MS"/>
              </a:rPr>
              <a:t>The CRC 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3"/>
          <p:cNvSpPr/>
          <p:nvPr/>
        </p:nvSpPr>
        <p:spPr>
          <a:xfrm>
            <a:off x="2438280" y="914400"/>
            <a:ext cx="430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ng the Scope for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4"/>
          <p:cNvSpPr/>
          <p:nvPr/>
        </p:nvSpPr>
        <p:spPr>
          <a:xfrm>
            <a:off x="2193480" y="1828800"/>
            <a:ext cx="4952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velopment of Questionn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5"/>
          <p:cNvSpPr/>
          <p:nvPr/>
        </p:nvSpPr>
        <p:spPr>
          <a:xfrm>
            <a:off x="3448080" y="3656160"/>
            <a:ext cx="238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6"/>
          <p:cNvSpPr/>
          <p:nvPr/>
        </p:nvSpPr>
        <p:spPr>
          <a:xfrm>
            <a:off x="4572000" y="1447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7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8"/>
          <p:cNvSpPr/>
          <p:nvPr/>
        </p:nvSpPr>
        <p:spPr>
          <a:xfrm>
            <a:off x="3522960" y="4570560"/>
            <a:ext cx="209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9"/>
          <p:cNvSpPr/>
          <p:nvPr/>
        </p:nvSpPr>
        <p:spPr>
          <a:xfrm>
            <a:off x="3476880" y="5408640"/>
            <a:ext cx="221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0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1"/>
          <p:cNvSpPr/>
          <p:nvPr/>
        </p:nvSpPr>
        <p:spPr>
          <a:xfrm>
            <a:off x="457200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2"/>
          <p:cNvSpPr/>
          <p:nvPr/>
        </p:nvSpPr>
        <p:spPr>
          <a:xfrm>
            <a:off x="3220920" y="273384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pl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3"/>
          <p:cNvSpPr/>
          <p:nvPr/>
        </p:nvSpPr>
        <p:spPr>
          <a:xfrm>
            <a:off x="4572000" y="22860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3437280" y="6238800"/>
            <a:ext cx="2233440" cy="4597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1"/>
          <p:cNvSpPr/>
          <p:nvPr/>
        </p:nvSpPr>
        <p:spPr>
          <a:xfrm>
            <a:off x="4537080" y="5867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0033c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BRIEFING SERVICE PROV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0033c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ISSEMINATION THROUGH ME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0033c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OBILISE COMMUNITY ORGANIZ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0033c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IALOGUE BETWEEN PROV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0033c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IALOGUE BETWEEN PROVIDERS &amp; CONSU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7DE-6B1A-4CC3-8B37-7CAC39F2A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Rectang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Presenting information in a holistic manner – the “Pat” &amp; the “Slap”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Allowing for shades of gray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Conveying findings in a value neutral manner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Power of comparison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Simple format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5E2-DB72-401E-B981-BFF6B9BF2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30000"/>
              </a:lnSpc>
              <a:spcBef>
                <a:spcPts val="1137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rengthening Public Accountabilit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1137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imulating Stakeholder Participation- space for Voice &amp; Contestation – </a:t>
            </a:r>
            <a:r>
              <a:rPr b="0" lang="en-US" sz="2600" spc="-1" strike="noStrike">
                <a:solidFill>
                  <a:srgbClr val="ff3300"/>
                </a:solidFill>
                <a:latin typeface="Arial Narrow"/>
              </a:rPr>
              <a:t>Citizens’ Manifesto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1137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creasing Public Awareness – from anecdotal to evidential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1137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nhancing Mobilisation &amp; Partnerships – </a:t>
            </a:r>
            <a:r>
              <a:rPr b="0" lang="en-US" sz="2600" spc="-1" strike="noStrike">
                <a:solidFill>
                  <a:srgbClr val="ff3300"/>
                </a:solidFill>
                <a:latin typeface="Arial Narrow"/>
              </a:rPr>
              <a:t>Social Capita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1137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fluencing Reforms – identifying new priorities, leveraging resources at the lower levels, setting standards &amp; norms, institutionalizing public participation etc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88B-05CB-4E59-8699-3D58053CC5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Rectangle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IES DISCUSS PERFORMANCE WITH CITIZENS IN OPEN FORA I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BANGALO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ATIC CITIZEN WATCH DOG ROLE IN LOCAL GOVT. IN TERNOPIL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UKRAIN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INGS USED TO BETTER DIRECT BUDGET ALLOCATIONS I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PENDENT APPROACH TO MONITOR PRO-POOR SERVICES I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ZANZIBAR &amp; ETHIOPI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WER LEVEL OFFICIALS CITE FINDINGS TO SEEK FUNDS &amp; SUPPORT I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MUMBA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INDI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OLITICAL LEADERSHIP ASKS FOR MORE DIRECT FEEDBACK IN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 Narrow"/>
              </a:rPr>
              <a:t>DELH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INDIA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75"/>
              </a:spcBef>
              <a:buClr>
                <a:srgbClr val="0000f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ULATORY BODIES SEEK INDEPENDENT VOICES IN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 Narrow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5AC-0679-46E4-86FE-2683D6FC4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78948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F06-D34E-4161-82D2-FB05D02F3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2895480" y="42670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7a8f"/>
                </a:solidFill>
                <a:latin typeface="Comic Sans MS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4" descr="images.jpg"/>
          <p:cNvPicPr/>
          <p:nvPr/>
        </p:nvPicPr>
        <p:blipFill>
          <a:blip r:embed="rId1"/>
          <a:stretch/>
        </p:blipFill>
        <p:spPr>
          <a:xfrm>
            <a:off x="3151080" y="1407960"/>
            <a:ext cx="2548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overnments spend on the wrong goods and people –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Lucida Sans Unicode"/>
              </a:rPr>
              <a:t>Budget Allocation 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ff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sources fail to reach service providers or users </a:t>
            </a:r>
            <a:r>
              <a:rPr b="0" lang="en-US" sz="2800" spc="-1" strike="noStrike">
                <a:solidFill>
                  <a:srgbClr val="da1f28"/>
                </a:solidFill>
                <a:latin typeface="Lucida Sans Unicode"/>
              </a:rPr>
              <a:t>-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Lucida Sans Unicode"/>
              </a:rPr>
              <a:t>Expenditure Tracking 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1749"/>
              </a:spcBef>
              <a:buClr>
                <a:srgbClr val="ff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ak incentives for effective service delivery  -</a:t>
            </a:r>
            <a:r>
              <a:rPr b="0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Lucida Sans Unicode"/>
              </a:rPr>
              <a:t>Problem of Monitoring/Accounta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1749"/>
              </a:spcBef>
              <a:buClr>
                <a:srgbClr val="ff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mand-side constraints -</a:t>
            </a:r>
            <a:r>
              <a:rPr b="0" lang="en-US" sz="2800" spc="-1" strike="noStrike">
                <a:solidFill>
                  <a:srgbClr val="da1f28"/>
                </a:solidFill>
                <a:latin typeface="Lucida Sans Unicode"/>
              </a:rPr>
              <a:t>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Lucida Sans Unicode"/>
              </a:rPr>
              <a:t>Problem of Participation/Awareness - 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EB9-F153-4116-B1E2-9AD9926B2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Rectangle 3" descr=""/>
          <p:cNvPicPr/>
          <p:nvPr/>
        </p:nvPicPr>
        <p:blipFill>
          <a:blip r:embed="rId1"/>
          <a:stretch/>
        </p:blipFill>
        <p:spPr>
          <a:xfrm>
            <a:off x="480960" y="291960"/>
            <a:ext cx="79866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064360" cy="14810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rial Narrow"/>
              </a:rPr>
              <a:t>Context of Social Accountability Approaches</a:t>
            </a: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9D7-F19F-4DA1-A905-87C65C0E8C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C997-30AD-4E69-B3A3-F256110EF4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0"/>
          <p:cNvGraphicFramePr/>
          <p:nvPr/>
        </p:nvGraphicFramePr>
        <p:xfrm>
          <a:off x="380880" y="1371600"/>
          <a:ext cx="744696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744696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5" name="Group 4"/>
          <p:cNvGrpSpPr/>
          <p:nvPr/>
        </p:nvGrpSpPr>
        <p:grpSpPr>
          <a:xfrm>
            <a:off x="5562720" y="1828800"/>
            <a:ext cx="3352680" cy="2743200"/>
            <a:chOff x="5562720" y="1828800"/>
            <a:chExt cx="3352680" cy="2743200"/>
          </a:xfrm>
        </p:grpSpPr>
        <p:grpSp>
          <p:nvGrpSpPr>
            <p:cNvPr id="676" name="Group 5"/>
            <p:cNvGrpSpPr/>
            <p:nvPr/>
          </p:nvGrpSpPr>
          <p:grpSpPr>
            <a:xfrm>
              <a:off x="5562720" y="1828800"/>
              <a:ext cx="3352680" cy="2743200"/>
              <a:chOff x="5562720" y="1828800"/>
              <a:chExt cx="3352680" cy="2743200"/>
            </a:xfrm>
          </p:grpSpPr>
          <p:sp>
            <p:nvSpPr>
              <p:cNvPr id="677" name="AutoShape 6"/>
              <p:cNvSpPr/>
              <p:nvPr/>
            </p:nvSpPr>
            <p:spPr>
              <a:xfrm>
                <a:off x="6934320" y="1828800"/>
                <a:ext cx="198108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2da2bf"/>
              </a:solidFill>
              <a:ln w="55080">
                <a:solidFill>
                  <a:srgbClr val="1e76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Social Accountabili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Tool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7"/>
              <p:cNvSpPr/>
              <p:nvPr/>
            </p:nvSpPr>
            <p:spPr>
              <a:xfrm flipH="1" flipV="1">
                <a:off x="5562720" y="1980720"/>
                <a:ext cx="838080" cy="2286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8"/>
              <p:cNvSpPr/>
              <p:nvPr/>
            </p:nvSpPr>
            <p:spPr>
              <a:xfrm flipH="1">
                <a:off x="7010280" y="3657600"/>
                <a:ext cx="609480" cy="9144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Line 9"/>
            <p:cNvSpPr/>
            <p:nvPr/>
          </p:nvSpPr>
          <p:spPr>
            <a:xfrm flipH="1">
              <a:off x="5943600" y="3124080"/>
              <a:ext cx="914400" cy="457200"/>
            </a:xfrm>
            <a:prstGeom prst="line">
              <a:avLst/>
            </a:prstGeom>
            <a:ln w="55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0880" y="152388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Narrow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the range of methods, tools and choices that involve ordinary citizens and civil society in general into the process of allocation, tracking disbursement, and monitoring use of public resources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FE8-62F0-4086-8E5B-FACDB9FE28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Rectangle 2" descr=""/>
          <p:cNvPicPr/>
          <p:nvPr/>
        </p:nvPicPr>
        <p:blipFill>
          <a:blip r:embed="rId1"/>
          <a:stretch/>
        </p:blipFill>
        <p:spPr>
          <a:xfrm>
            <a:off x="60480" y="324000"/>
            <a:ext cx="8766000" cy="98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"/>
          <p:cNvSpPr/>
          <p:nvPr/>
        </p:nvSpPr>
        <p:spPr>
          <a:xfrm>
            <a:off x="304920" y="3505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these mechanisms help ensure greater accountability to citizens for public actions and outcom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228600" y="4800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and they constitute demand side approaches to public policy re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6:27:26Z</dcterms:created>
  <dc:creator>Gopa</dc:creator>
  <dc:description/>
  <dc:language>en-US</dc:language>
  <cp:lastModifiedBy>Meena</cp:lastModifiedBy>
  <dcterms:modified xsi:type="dcterms:W3CDTF">2009-12-08T05:40:15Z</dcterms:modified>
  <cp:revision>87</cp:revision>
  <dc:subject/>
  <dc:title>CITIZEN REPORT CARDS</dc:title>
</cp:coreProperties>
</file>