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779-F4FC-4CB6-9C02-772B29D7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540-2767-4993-8284-EF7EB1FE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ADC-885F-4D2D-9C34-FED230AE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9FC-C1B7-478C-8D0F-25662959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82B5-4507-4930-A1DF-18CF8928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154C-CD3E-4538-A47F-1AC60531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F4CF-EC68-47C5-882F-5096E202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3314-E5B0-45BC-9FE3-31C70EAE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7F32-FFE3-4E15-83A9-DDE43028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8A56-ED80-4F80-8335-9DFC1B76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F216-9246-4E03-ADD7-750A93AE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4C9-6F1B-4D0F-A5BF-81AB27F1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4541-7D61-4200-8F3D-F9C1159F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ED99-A778-484F-81E6-7928626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5A1B-1A22-4B5D-8213-4DFED501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B594-C80F-4743-9D37-7293FB85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7FAF-2FBD-4A75-9E6C-9ADA7129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861-65CB-4D37-8CA9-1E5C3084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2B6-32CE-45FB-AC0A-3D88814E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177-2D94-4CD8-AB49-02220C20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ADD-4AE5-4696-9195-B5F99706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A7F-32B2-4CAC-94AC-23BBB6C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B01-742F-448E-A466-CF27DAA4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C69-0240-4E37-A80C-4BAE5E08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C423-AB56-4A8E-B254-AE494F8437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8077320" y="0"/>
          <a:ext cx="1066680" cy="9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0"/>
                    <a:ext cx="10666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BF55-7E36-4BD8-B94C-8AAE902C7F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077320" y="0"/>
          <a:ext cx="1066680" cy="9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0"/>
                    <a:ext cx="10666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lbertus Medium"/>
              </a:rPr>
              <a:t>IMPROVING GOVERNANC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160" y="3657600"/>
            <a:ext cx="7848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en-US" sz="4500" spc="-1" strike="noStrike">
                <a:solidFill>
                  <a:srgbClr val="0000ff"/>
                </a:solidFill>
                <a:latin typeface="Arial Narrow"/>
              </a:rPr>
              <a:t>The </a:t>
            </a:r>
            <a:r>
              <a:rPr b="1" lang="en-US" sz="6100" spc="-1" strike="noStrike">
                <a:solidFill>
                  <a:srgbClr val="0000ff"/>
                </a:solidFill>
                <a:latin typeface="Arial Narrow"/>
              </a:rPr>
              <a:t>PAC</a:t>
            </a:r>
            <a:r>
              <a:rPr b="1" lang="en-US" sz="4500" spc="-1" strike="noStrike">
                <a:solidFill>
                  <a:srgbClr val="0000ff"/>
                </a:solidFill>
                <a:latin typeface="Arial Narrow"/>
              </a:rPr>
              <a:t> Story…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i="1" lang="en-US" sz="2900" spc="-1" strike="noStrike">
                <a:solidFill>
                  <a:srgbClr val="000000"/>
                </a:solidFill>
                <a:latin typeface="Arial Narrow"/>
              </a:rPr>
              <a:t>1994-2008</a:t>
            </a: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378000"/>
            <a:ext cx="640224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Arial Narrow"/>
              </a:rPr>
              <a:t>Other Research…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An Agenda for Combating Corruption in Ind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Analyses of Municipal Budgets, Industrial Environment, Power Tariff.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Assessment of Public Interest Litigation as an Advocacy To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Analysis of The Affidavits Filed by the Elected Parliamentarians of the new Lok Sabh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Towards Citizen Centric Governance – An Agenda for Action. Recommendations submitted to the Second Administrative Commis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228600"/>
            <a:ext cx="65530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itizen Action Support &amp; Advocacy Group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752480"/>
            <a:ext cx="792504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3400" spc="-1" strike="noStrike">
                <a:solidFill>
                  <a:srgbClr val="0033cc"/>
                </a:solidFill>
                <a:latin typeface="Arial Narrow"/>
              </a:rPr>
              <a:t>Develop replicable models &amp; tools to strengthen systematic and sustainable civic  engagement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374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ampa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374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Aud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374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itizenship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374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Netwo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548784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 Narrow"/>
              </a:rPr>
              <a:t>Some Highlights…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Electoral Reforms &amp; Voter Awaren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Monitoring the Quality of Road 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Childrens’ Movement For Civic Awaren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Campaigning for &amp; Auditing the “Right To Information Act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Review &amp; Audit of Panchayat Jamaband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Coalition Against Corrup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Empowering the Cutting Edges – Strengthening Civic Engagement in Development Interven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5945040" cy="99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International Partnership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Successful co-applicant of the DFiD’s Governance &amp; Transparenc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Project – Citizen Against Corruption – covers South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£ 2 million grant to be spread over 40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PAC to provide technical support, supervision, evaluation, assimilation and disse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Project commences on October 1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640224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hallenges, Strategies &amp; Visio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Primacy of Innov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Networking &amp; Coali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Documentation &amp; Dissemi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Scaling up of citizen engagement mode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New research fronti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Retaining &amp; Attracting competent and motivated staf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Expand funding sour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Be recognized as the top CSO in the governance are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 Narrow"/>
              </a:rPr>
              <a:t>PUBLIC AFFAIRS CENTRE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33cc"/>
                </a:solidFill>
                <a:latin typeface="Arial Narrow"/>
              </a:rPr>
              <a:t>VIS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900" spc="-1" strike="noStrike">
                <a:solidFill>
                  <a:srgbClr val="000000"/>
                </a:solidFill>
                <a:latin typeface="Arial Narrow"/>
              </a:rPr>
              <a:t>Improving the Quality of Governance in India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33cc"/>
                </a:solidFill>
                <a:latin typeface="Arial Narrow"/>
              </a:rPr>
              <a:t>MISSION STATEM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DENTIFY AND PROMOTE INITIATIVES THAT FACILITATE A PRO-ACTIVE ROLE BY CITIZENS TO ENHANCE THE LEVEL OF PUBLIC ACCOUNTABILITY AND PERFORMANCE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cc3300"/>
                </a:solidFill>
                <a:latin typeface="Arial Narrow"/>
              </a:rPr>
              <a:t>A KNOWLEDGE DRIVEN - ACTION SUPPORT ORGA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304920"/>
            <a:ext cx="6337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at are our Values &amp; Principles?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990720"/>
          <a:ext cx="8229600" cy="5638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Valu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rincipl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0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ommitm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Accountabi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n partisanshi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n profi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Honesty / Integr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ourag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Equal partnershi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redibi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imelines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Optimal resource us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onsensus drive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ollaborativ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Knowledge drive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Informed Ac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eople centri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roactive public disclos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Innov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609480"/>
            <a:ext cx="63374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Our Approaches…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447920"/>
            <a:ext cx="7916760" cy="58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nowledge generation for reform / informed advo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bilization of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fined Terms of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ap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pacity / Competency / Capabil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ights Based (Demand S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09480"/>
            <a:ext cx="63374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Our Competen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600200"/>
            <a:ext cx="7135920" cy="51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37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Service delivery assess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37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M&amp;E – Public programm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37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Policy resear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37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Action resear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37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Informed advocacy &amp; campaig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37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Citizenship Edu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37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Coalition buil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37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Project manag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37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Toolkits &amp; Manu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37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Spontaneity &amp; Innov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09480"/>
            <a:ext cx="6781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How we organize ou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828800"/>
            <a:ext cx="7924680" cy="37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425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ublic Policy Research Grou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425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articipatory Governance Research Grou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425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itizen Action Support &amp; Advocacy Grou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374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425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dministration &amp; Fin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425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380880"/>
            <a:ext cx="70866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ublic Policy Research Group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752480"/>
            <a:ext cx="792504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3400" spc="-1" strike="noStrike">
                <a:solidFill>
                  <a:srgbClr val="0033cc"/>
                </a:solidFill>
                <a:latin typeface="Arial Narrow"/>
              </a:rPr>
              <a:t>Conduct systematic research on sectoral and inter-sectoral issues to influence policy and implementation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374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elationship between finances &amp; service deli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374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itique of the JNU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374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Institutional arrangements for service deli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374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Norms for urban public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228600"/>
            <a:ext cx="65530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articipatory Governance Research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925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3400" spc="-1" strike="noStrike">
                <a:solidFill>
                  <a:srgbClr val="0033cc"/>
                </a:solidFill>
                <a:latin typeface="Arial Narrow"/>
              </a:rPr>
              <a:t>Widen and deepen application of social accountability tools and concepts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374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lagship product – Citizen Report C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374"/>
              </a:spcAft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New tools and 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64022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itizen Report Cards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Pioneering application in Bangalore in 1993; Repeated benchmarks – 1999 &amp; 200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Widening applications – Sectoral, Rural, National, Programmatic (PDS, SS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ilding capacity of partners to design &amp; implement CR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Innovating e-Learning Modules to scale-up CR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03:56:46Z</dcterms:created>
  <dc:creator>Gopa</dc:creator>
  <dc:description/>
  <dc:language>en-US</dc:language>
  <cp:lastModifiedBy>Manjunath</cp:lastModifiedBy>
  <dcterms:modified xsi:type="dcterms:W3CDTF">2008-11-27T04:19:18Z</dcterms:modified>
  <cp:revision>15</cp:revision>
  <dc:subject/>
  <dc:title> PUBLIC AFFAIRS CENTRE</dc:title>
</cp:coreProperties>
</file>