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Click to move the slide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7011-D737-4D16-8928-3FB2DED0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FFD7-97E9-4566-8C54-586629F0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BC0-1FB0-4F56-B471-4342DEB6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D10-CA0B-4B4D-9B28-FB59EF48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CE2-7803-41F9-93AC-BD776E59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E38-4F22-4C0D-9275-156A504C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D19-E061-4E21-B17B-680D755C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8A4-023F-4C9E-B3E1-BEEED130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D39-CDA3-443B-A82C-C987AACE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E4C-16B6-4A8E-9F70-D6D840AE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C18-B9F7-44D6-8D49-722C1E86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6E5-6206-4CE5-8C1D-17DAB75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BF8-52A0-4DE9-9555-5E3622F1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DBC-9A99-4616-85CB-8AC65857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Click to edit the title text format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7 Jul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Public Affair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EBD0-E506-4459-8EC9-08EAC78C2EA2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Citizen’s Charters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Warnock Pro SmBd"/>
              </a:rPr>
              <a:t>An Introduction</a:t>
            </a:r>
            <a:br>
              <a:rPr sz="2800"/>
            </a:br>
            <a:endParaRPr b="0" lang="en-US" sz="2800" spc="-1" strike="noStrike">
              <a:solidFill>
                <a:srgbClr val="ff9966"/>
              </a:solidFill>
              <a:latin typeface="Warnock Pro SmBd"/>
            </a:endParaRPr>
          </a:p>
        </p:txBody>
      </p:sp>
      <p:pic>
        <p:nvPicPr>
          <p:cNvPr id="49" name="Picture 3" descr="logo"/>
          <p:cNvPicPr/>
          <p:nvPr/>
        </p:nvPicPr>
        <p:blipFill>
          <a:blip r:embed="rId1"/>
          <a:stretch/>
        </p:blipFill>
        <p:spPr>
          <a:xfrm>
            <a:off x="4287960" y="4648320"/>
            <a:ext cx="741240" cy="74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Dos and Don’ts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1066680"/>
          <a:ext cx="8458200" cy="5702400"/>
        </p:xfrm>
        <a:graphic>
          <a:graphicData uri="http://schemas.openxmlformats.org/drawingml/2006/table">
            <a:tbl>
              <a:tblPr/>
              <a:tblGrid>
                <a:gridCol w="685800"/>
                <a:gridCol w="4114800"/>
                <a:gridCol w="36576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l.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n’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ke haste, Slow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n’t merely make ha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st areas of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n’t be unrealistic in commit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hase out areas for introduction of small st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 not rush in to overall package for the depart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volve customers and Staff in formulating &amp; implementing the cha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n’t involve only senior offic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in consumer confidence with small, highly visibl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n’t promise more than what you can deliver at a given point of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member that it is a constant evolving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n’t think it is a one-time exercise with a final out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e simple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n’t use jargon, abbreviations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rain the staff on their roles in implementation of cha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n’t leave yourself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legate powers to staff to ensure effective 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n’t central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t up systems for feedback  and independent scruti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n’t continue blindly without periodic performanc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Discussion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Session 2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 Decade of Experien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nding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olicy Implica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A Decade of Experience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ve Citizen’s Charter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en designed in accordance with domestic and international criteria?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creased transparency by empowering end-users with critical information on government agencies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en effectively implemented in practice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ibuted to improvements in service delivery quality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A Decade of Experience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rebuchet MS"/>
              </a:rPr>
              <a:t>A National Revie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amined nearly 760 Citizen’s Charters in a preliminary review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alyzed &amp; graded 200 Citizen’s Charters drafted by central and state government agencies from across Indi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nchmarked against internationally recognized criteri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auged the experiences of end-users &amp; government officials through scientific survey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irst broad-based study at the national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Secondary Review - Indicators for grading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VISION AND MISSION STATEMENT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Vision and Mission given separatel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ission given in clear term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ission represents the goals and objectives of the Department /Agency to provide quality servic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ission spells out the commitment of the Department / Agency to the stakeholders, including courteous and helpful behavior to the public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FUNCTIONS/ DUTIES OF THE AGEN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harter indicates the duties and functions assigned to / administered by the Department / Agen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harter specifies the intended groups of beneficiaries for each servic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Secondary Review - Indicators for grading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RELATED LEGISLATION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harter refers to the laws / rules administered by the Dept./ Agen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INFORMATION ABOUT THE AGEN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act details of Department / Agen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Name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Addresse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Tel. numbers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tails of the sub-offices, branches, field offices and related offices give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eb site details/ e-mail id give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ist of names, telephone numbers and/or e-mail id of key officials who deal with the public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Secondary Review - Indicators for grading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SERVICES PROVIDED BY THE AGEN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vides a complete list of all services provided to the public by the Agenc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early states the procedure (including steps to be followed by the user) to avail the listed servic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ames / designations of the authorities/ officials to whom the public must apply for the services given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formation reg. the timing of the office (open for each service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f there are prescribed formats and forms to seek the services, they are attached to the charter or the source indicated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f they are priced documents, the charter says where to get the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entions the fees and charges payable for each service along with the applica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 ‘single window’ facility to get all linked services at one plac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ives the process for applying for the service electronically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Secondary Review - Indicators for grading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ESTABLISHED STANDARD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early states the established standards (expected time to attend to customers, time limit to provide the services, assured quality and quantity etc.,) relating to each service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stablished standards are prima facie reasonable. Please provide samples to illustrate the categorization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Quality of service defined clearly to ensure the accountability of the officials concerned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CITIZENS DUTI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early lists out the obligations and duties of the citizen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Secondary Review - Indicators for grading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CITIZENS’ RIGHTS AND COMPENSA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scribes the rights of citizens with respect to the services offered to them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vides for any compensation payable to the citizens in the event of failure to maintain the standard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GRIEVANCE REDRESS MECHANIS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vides adequate details regarding the grievance redress mechanism in force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entions the office hours when an aggrieved user could register his/her complaint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dicates where and how the complaint may be registered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(Name, designation, Tel. numbers, e-mail id, meeting time of the nominated public grievance / nodal officer, etc.)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Session 1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itizen’s Charters in Concep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omponents of a Citizen’s Chart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ormulation of Citizens’ Charters: A Road Map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s and Don’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Secondary Review - Indicators for grading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Trebuchet MS"/>
              </a:rPr>
              <a:t>GRIEVANCE REDRESS MECHANISM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pecifies the procedure for acknowledgement, with the expected time of redress (response time)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stablishes the procedure to submit appeals to a higher authority if the complaint is not resolved within the promised time limi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Trebuchet MS"/>
              </a:rPr>
              <a:t>CITIZENS FRIENDLY APPROACH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Language simple and easily understood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terials included in the charter are relevant and precisely drafte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vailable in the regional language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rovides the date of publication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tains the procedure for periodical review and updating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harter indicates a process of consultation with citizens / civil society organizations to gauge the level of satisfaction / improve upon the service delivery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ale price of the charter indicated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urce for accessing copies of the charter mentioned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akes into account the needs and requirements of the vulnerable sections of users (physically challenged, senior citizens, women, children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Findings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ign &amp; Cont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ccess &amp; Accountabilit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stribution by State &amp; Secto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rovements to Service Delivery Qualit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Findings – Design &amp; Content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23920" y="1417680"/>
            <a:ext cx="42498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nly 27% of the 554 charters reviewed included 8 or more of the 10 essential components a Citizen’s Charter should hav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28% outlined the procedures needed to apply for servic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56% included service quality standards &amp; 54% described grievance redress procedur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42% provided contact information for key official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1" name="Picture 4" descr="chart 5"/>
          <p:cNvPicPr/>
          <p:nvPr/>
        </p:nvPicPr>
        <p:blipFill>
          <a:blip r:embed="rId1"/>
          <a:stretch/>
        </p:blipFill>
        <p:spPr>
          <a:xfrm>
            <a:off x="0" y="2214720"/>
            <a:ext cx="4724280" cy="4127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457200" y="1757520"/>
            <a:ext cx="37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Scores Obtained by Charters Revie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Findings – Access &amp; Accountability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4760" y="1417680"/>
            <a:ext cx="40388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Just 26% were aware of the Citizen’s Charter progra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f dissatisfied users, only 36% filed a formal complain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ost officials surveyed were not aware of their department’s chart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re is no comprehensive listing of Citizen’s Charters – just 829 are listed on the DARPG websit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5" name="Picture 4" descr="chart 3"/>
          <p:cNvPicPr/>
          <p:nvPr/>
        </p:nvPicPr>
        <p:blipFill>
          <a:blip r:embed="rId1"/>
          <a:stretch/>
        </p:blipFill>
        <p:spPr>
          <a:xfrm>
            <a:off x="93600" y="2517840"/>
            <a:ext cx="4932360" cy="3112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57200" y="2065320"/>
            <a:ext cx="394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Awareness of the Citizen’s Charter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Warnock Pro SmBd"/>
              </a:rPr>
              <a:t>Findings – Distribution by State &amp; Sector</a:t>
            </a:r>
            <a:endParaRPr b="0" lang="en-US" sz="32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rebuchet MS"/>
              </a:rPr>
              <a:t>Distribution by Stat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9" name="Picture 4" descr="chart 1"/>
          <p:cNvPicPr/>
          <p:nvPr/>
        </p:nvPicPr>
        <p:blipFill>
          <a:blip r:embed="rId1"/>
          <a:stretch/>
        </p:blipFill>
        <p:spPr>
          <a:xfrm>
            <a:off x="542880" y="1682640"/>
            <a:ext cx="8056440" cy="477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Warnock Pro SmBd"/>
              </a:rPr>
              <a:t>Findings – Distribution by State &amp; Sector</a:t>
            </a:r>
            <a:endParaRPr b="0" lang="en-US" sz="32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3040" y="118548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rebuchet MS"/>
              </a:rPr>
              <a:t>Grades by Secto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928800" y="1647720"/>
            <a:ext cx="7286400" cy="4877640"/>
            <a:chOff x="928800" y="1647720"/>
            <a:chExt cx="7286400" cy="4877640"/>
          </a:xfrm>
        </p:grpSpPr>
        <p:pic>
          <p:nvPicPr>
            <p:cNvPr id="103" name="Picture 5" descr="chart 2"/>
            <p:cNvPicPr/>
            <p:nvPr/>
          </p:nvPicPr>
          <p:blipFill>
            <a:blip r:embed="rId1"/>
            <a:stretch/>
          </p:blipFill>
          <p:spPr>
            <a:xfrm>
              <a:off x="928800" y="1647720"/>
              <a:ext cx="7286400" cy="487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6"/>
            <p:cNvSpPr/>
            <p:nvPr/>
          </p:nvSpPr>
          <p:spPr>
            <a:xfrm>
              <a:off x="2066760" y="2062080"/>
              <a:ext cx="4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(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1916280" y="2897280"/>
              <a:ext cx="60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(5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1916280" y="3732120"/>
              <a:ext cx="60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(3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916280" y="4567320"/>
              <a:ext cx="60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(3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1916280" y="5402160"/>
              <a:ext cx="60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(2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1916280" y="6218280"/>
              <a:ext cx="60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(49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Findings - Implementation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ttle evidence that agencies consulted end-users or civil society organizations before drafting Citizen’s Charte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ss than 37% of officials interviewed reported being involved during the drafting of their agency’s chart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64% of officials were </a:t>
            </a:r>
            <a:r>
              <a:rPr b="1" lang="en-US" sz="2800" spc="-1" strike="noStrike">
                <a:solidFill>
                  <a:srgbClr val="ff6600"/>
                </a:solidFill>
                <a:latin typeface="Trebuchet MS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trained in methods to implement a chart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ew charters were updated after being implement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Warnock Pro SmBd"/>
              </a:rPr>
              <a:t>Findings – Improvements to Service Quality</a:t>
            </a:r>
            <a:endParaRPr b="0" lang="en-US" sz="32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4760" y="1599840"/>
            <a:ext cx="403884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ss than 40% of end-users report that service is delivered as per standards compared to 89% of official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ore than 42% of end-users had to visit an office three times or more to obtain documents they had applied fo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4" name="Picture 4" descr="chart 4"/>
          <p:cNvPicPr/>
          <p:nvPr/>
        </p:nvPicPr>
        <p:blipFill>
          <a:blip r:embed="rId1"/>
          <a:stretch/>
        </p:blipFill>
        <p:spPr>
          <a:xfrm>
            <a:off x="-1195560" y="1600200"/>
            <a:ext cx="7286760" cy="5065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57200" y="1722600"/>
            <a:ext cx="394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User Perceptions of Service Delivery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Warnock Pro SmBd"/>
              </a:rPr>
              <a:t>Findings – Improvements to Service Quality</a:t>
            </a:r>
            <a:endParaRPr b="0" lang="en-US" sz="32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gencies that prominently display charters provide better servi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39% of users of agencies that displayed a charter reported that service was delivered as per standards compared to 21% of users of agencies that did not display a chart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29% of users of agencies that did displayed a charter were satisfied with its performance compared to 15% of users of agencies that did not display a chart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Policy Implications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rebuchet MS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gencies drafting a citizen’s charter must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etermine the services they provide and their core competenc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sult with end-users &amp; civil society organizations to research their need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mulate realistic, implementable service delivery standard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cope potential restructur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in &amp; motivate staff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Citizen’s Charters in Concept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rebuchet MS"/>
              </a:rPr>
              <a:t>The Citizen’s Charter Initiativ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understanding between ordinary citizens &amp; public service providers in which government agencies agree to deliver a certain quantity &amp; quality of services in return for fees or tax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opportunity for government agencies to introspect on how to implement systemic changes to improve service delivery quali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Policy Implications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rebuchet MS"/>
              </a:rPr>
              <a:t>An Impetus From Within is Need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ill the Citizen’s Charter program be a success without a strong movement from within the government to improve service quality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itizen’s Charters should be capstone to systemic reforms implemented by agenc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gencies implementing a charter should act in a “mission” mode by defining metrics and strategies towards succes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ld top level officials accountable for succes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Policy Implications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rebuchet MS"/>
              </a:rPr>
              <a:t>Rethink Prerequisites for Succes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gencies should reflect on the feasibility of implementing a Citizen’s Charter before drafting such a docum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econditions necessary for a successful implementation of a charter need to be determin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phased rollout of the Citizen’s Charter program beginning with agencies that meet such prerequisites may be advantageou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Policy Implications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rebuchet MS"/>
              </a:rPr>
              <a:t>Strengthen Charter Desig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 more effective, decentralized vetting process must be instituted to ensure quality of Citizen’s Charter desig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gional bodies or expert groups should assist with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alyzing quality of charter conten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ining staff to implement charter provis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Policy Implications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rebuchet MS"/>
              </a:rPr>
              <a:t>Include Civil Society in the Proce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ivil society organizations &amp; end-users must be consulted when drafting Citizen’s Charters to gauge their need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ivil society &amp; the media can be used as an awareness building apparatu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amil Nadu Mod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nchmark progress using end-user feedba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Discussion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</p:spTree>
  </p:cSld>
  <p:transition spd="med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Concept contd..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rebuchet MS"/>
              </a:rPr>
              <a:t>Transparenc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mpower end-users with key information they can use to demand quality servi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rebuchet MS"/>
              </a:rPr>
              <a:t>Accountabilit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pel government agencies to deliver service as per standards that they themselves have define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Concept contd..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rebuchet MS"/>
              </a:rPr>
              <a:t>A Histo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cept originated in the UK in 1991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ime Minister initiated the Citizen’s Charter program at the national level in India in 1996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mplemented at the state level in 1997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s per the DARPG, 829 agencies have drafted a Citizen’s Chart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entral Government: 118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tates: 603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nion Territories:108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Citizen’s Charters - Components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rebuchet MS"/>
              </a:rPr>
              <a:t>What Are They?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mple documents that outline key information on public service provide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clude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Vision &amp; Mission Statement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unctions/ Dutie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lated Legislation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act Information for Key Official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rvices an Agency Provid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Trebuchet MS"/>
              </a:rPr>
              <a:t>Established standard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itizens’ Duti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itizens’ Rights and Compensa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Trebuchet MS"/>
              </a:rPr>
              <a:t>Grievance Redress Procedur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Trebuchet MS"/>
              </a:rPr>
              <a:t>Charter Characteristics / Citizen Friendly Approach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Road Map to formulate a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Citizens’ Charter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up of a Task Force within the organis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83480" indent="-483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dentification of all stakeholders in the organisation and major services provided by the organis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83480" indent="-483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ultation with clients/ stakeholders/ staff and their representative associa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83480" indent="-483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eparation of draft chart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83480" indent="-483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Road Map Contd…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irculation for comments / sugges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difications in charter to include the sugges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bmission of draft charter to the DARPG for approva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difications to incorporate the suggestions by the core group in DARP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Warnock Pro SmBd"/>
              </a:rPr>
              <a:t>Road Map Contd…</a:t>
            </a:r>
            <a:endParaRPr b="0" lang="en-US" sz="3600" spc="-1" strike="noStrike">
              <a:solidFill>
                <a:srgbClr val="ff9966"/>
              </a:solidFill>
              <a:latin typeface="Warnock Pro SmB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pproval by Minister – in – char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mal release of the charter and putting it on the websit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ssemination of copies to people’s representatives and all stakeholde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ppointment of nodal officer to ensure effective implementation of the Chart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15:03:53Z</dcterms:created>
  <dc:creator>Sripad Sriram</dc:creator>
  <dc:description/>
  <dc:language>en-US</dc:language>
  <cp:lastModifiedBy>Meena</cp:lastModifiedBy>
  <dcterms:modified xsi:type="dcterms:W3CDTF">2009-12-04T10:00:50Z</dcterms:modified>
  <cp:revision>52</cp:revision>
  <dc:subject/>
  <dc:title>Slide 1</dc:title>
</cp:coreProperties>
</file>